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2.jpeg" ContentType="image/jpeg"/>
  <Override PartName="/ppt/media/image57.png" ContentType="image/pn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50.jpeg" ContentType="image/jpeg"/>
  <Override PartName="/ppt/media/image27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30.png" ContentType="image/png"/>
  <Override PartName="/ppt/media/image15.png" ContentType="image/png"/>
  <Override PartName="/ppt/media/image12.png" ContentType="image/png"/>
  <Override PartName="/ppt/media/image14.png" ContentType="image/png"/>
  <Override PartName="/ppt/media/image64.png" ContentType="image/png"/>
  <Override PartName="/ppt/media/image17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29.jpeg" ContentType="image/jpeg"/>
  <Override PartName="/ppt/media/image65.wmf" ContentType="image/x-wmf"/>
  <Override PartName="/ppt/media/image38.jpeg" ContentType="image/jpeg"/>
  <Override PartName="/ppt/media/image16.jpeg" ContentType="image/jpeg"/>
  <Override PartName="/ppt/media/image5.jpeg" ContentType="image/jpeg"/>
  <Override PartName="/ppt/media/image61.png" ContentType="image/png"/>
  <Override PartName="/ppt/media/image24.png" ContentType="image/png"/>
  <Override PartName="/ppt/media/image22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21.png" ContentType="image/png"/>
  <Override PartName="/ppt/media/image23.jpeg" ContentType="image/jpeg"/>
  <Override PartName="/ppt/media/image8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31.jpeg" ContentType="image/jpeg"/>
  <Override PartName="/ppt/media/image33.jpeg" ContentType="image/jpeg"/>
  <Override PartName="/ppt/media/image35.png" ContentType="image/png"/>
  <Override PartName="/ppt/media/image28.png" ContentType="image/png"/>
  <Override PartName="/ppt/media/image43.jpeg" ContentType="image/jpeg"/>
  <Override PartName="/ppt/media/image41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58.png" ContentType="image/png"/>
  <Override PartName="/ppt/media/image46.jpeg" ContentType="image/jpeg"/>
  <Override PartName="/ppt/media/image47.jpeg" ContentType="image/jpeg"/>
  <Override PartName="/ppt/media/image49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877F-3771-4033-8EB2-544F6BCED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C166-4A08-4855-B573-D151F9C83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022-F009-4F9C-B85A-400FF86B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4E2-8B9C-49FD-86E6-943E5542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181-0363-4640-9714-6E937248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AEC-3594-4C3F-8B04-9274CA92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F41-3D6D-49EA-895C-915E2026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4948-512E-4432-A00A-245A9D22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0643-7EB5-431E-B044-D2EAE663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37C7-5E05-424A-B9C1-CCBE7B7D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EEFE-B31B-4DA4-AFC0-B13C95CF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0A47-5300-442A-B802-EEE5798F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34AE-EB83-463B-97AD-7F6ECEA1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663-2B6F-492B-9AC1-B2743DF0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13B4-4DC8-4EC8-8407-F0EBE7D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A29-0B02-4324-AFF8-32C72916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4536-322E-46F6-B62F-235611D8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89A6-65C2-451B-9D2A-678CCFA1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D090-5EEA-438D-8A0A-6BA8CCB5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3112-9601-4174-9742-8F5A0B68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123BE-BFB5-411E-AE5A-77DA9AC5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19BF-CE02-4F15-A651-24B096F2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949D-8D38-4EDA-95D0-19E740C4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5ADA0-86E5-49A0-9592-586B867C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BC2-349B-4295-A2B5-A274DF33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A505-A963-45AA-AC43-6507DB9D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0AFD8-E50D-4552-9D00-430BF60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896B-1797-4773-B932-F0F7063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DF96-3D39-48D3-8126-733650E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9FF8-F54A-40FF-82B0-94AE4728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107A-8627-4588-8E84-C385B61D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DA33-075D-4817-99FA-4140101A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3591-B94B-49FE-A764-F2BEC611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16BFC-49CE-49CD-9DC8-DABA0DE4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C047-415B-401C-9BAC-6F99D626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A81-7A9F-480C-9CF9-D0C3CB1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D5D85-0615-4A42-BFB5-DA4D56BA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2F63-1E9B-4969-BC4B-BD90CA9A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E6C18-C689-4C9E-B41C-ECF38B1F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B94F-3D76-454A-88A6-E807CAF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EEF8-F1A0-4ED8-9708-7FB6118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EA66-3186-4367-96D2-59911FFE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EF591-0226-444F-AAC3-14AE8409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35CA9-268A-47B7-AC8E-9C240F00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6504-5647-4C2C-8E08-7A71457F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15802-8862-4A21-8552-741DFECE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A61-9306-454B-AFC6-92EF3F85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3152E-56BD-4F5E-87BA-8DE5F60D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73AD3-46D1-4824-8521-B3BC2519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1EB8-13A5-4E0E-BD0C-04D4160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B78E-C93C-492F-9DFF-C75BAA7C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9FD0-13C1-41B2-B01E-8F2CF5C7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3961-DC44-41CC-A77C-3FFC8184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5B61-A91C-4611-86EE-B4EE19AF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FD44-7AB8-4D46-BDB9-2768B8B7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5CE6D-AB4E-4785-8559-60DEEDB4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23547-3C9B-491E-BDAF-CA10FCA8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AF4-3B01-436E-91D1-7AB4C088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855B-F1BF-47D8-92A9-E37B5D50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0F9FB-ECF1-4CBF-A381-AE8C1E5C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04AEE-9064-4638-934C-3F7D7972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0C766-E923-4F4F-A590-0F0C52FE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D8593-FF22-46B1-9477-9D12B99E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8E0D-83EB-4EE2-A9C5-5BC3642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39005-9446-451D-AE05-0286403D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974A2-2905-46AE-BCC0-428AA196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0C504-52C5-4FA1-8EF3-3F7B170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A836-B9FF-4E08-9ACF-0B8F02E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948-D030-4C36-AFD8-985AE12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FC4B2-218C-4BE4-924E-362AD688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6FB3E-1E26-43C2-81B4-419525AA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D89C-4099-4F99-A510-C30FD2E6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CA0-14A2-4896-AEAD-F5B5CAE2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B3C-C066-4ED8-914B-7B34834A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DF12-F1DF-4DF4-8DCF-3A4394A328CC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790E-43F1-438B-8086-2D5E1794683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92F7-F07A-4909-BF8B-23D6B7E8D52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9237-8A8C-46C4-9259-023F64B452B5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DEB1-205B-448F-B8B0-368203F4F17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867E-AAE5-44D8-872B-179867B465E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75CD-98A7-49D3-B750-FABF2BB51623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04DD-265B-4123-A717-1997842AD2B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B825-FD40-4796-9DBB-42506D56486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4DFA-0F81-4B7C-812B-CEB2A1CDFEF4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D55C-01C8-4B2D-87D2-5BADE04F02A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9373-A305-49D9-B169-A9BEEAFB6F5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B9A3-8FC4-49F3-ACAA-64B33AE4574B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C012-B901-40CD-8849-C440E38F96B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1805-1988-43AA-83CD-4FB0D78D260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9A22-F318-4877-915D-BABA0A8E61D8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tbr.org.br/comunicacao/noticias-conteudo.asp?cod=1196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15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ctbr.org.br/" TargetMode="External"/><Relationship Id="rId2" Type="http://schemas.openxmlformats.org/officeDocument/2006/relationships/hyperlink" Target="mailto:monica.andreis@actbr.org.br" TargetMode="External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tângulo 3"/>
          <p:cNvSpPr/>
          <p:nvPr/>
        </p:nvSpPr>
        <p:spPr>
          <a:xfrm>
            <a:off x="250920" y="1844640"/>
            <a:ext cx="8642160" cy="1513080"/>
          </a:xfrm>
          <a:prstGeom prst="rect">
            <a:avLst/>
          </a:prstGeom>
          <a:solidFill>
            <a:srgbClr val="ffe285"/>
          </a:solidFill>
          <a:ln w="478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magem 2" descr="actbr_v2a.jpg"/>
          <p:cNvPicPr/>
          <p:nvPr/>
        </p:nvPicPr>
        <p:blipFill>
          <a:blip r:embed="rId1"/>
          <a:stretch/>
        </p:blipFill>
        <p:spPr>
          <a:xfrm>
            <a:off x="3286080" y="5072040"/>
            <a:ext cx="2571840" cy="1023840"/>
          </a:xfrm>
          <a:prstGeom prst="rect">
            <a:avLst/>
          </a:prstGeom>
          <a:ln w="0">
            <a:noFill/>
          </a:ln>
        </p:spPr>
      </p:pic>
      <p:sp>
        <p:nvSpPr>
          <p:cNvPr id="261" name="CaixaDeTexto 4"/>
          <p:cNvSpPr/>
          <p:nvPr/>
        </p:nvSpPr>
        <p:spPr>
          <a:xfrm>
            <a:off x="250920" y="213372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experiência da Aliança de Controle do Tabag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ase da Lei Antifumo de 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aixaDeTexto 6"/>
          <p:cNvSpPr/>
          <p:nvPr/>
        </p:nvSpPr>
        <p:spPr>
          <a:xfrm>
            <a:off x="2844000" y="4143240"/>
            <a:ext cx="322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ônica And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nica.andreis@actbr.org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CaixaDeTexto 2"/>
          <p:cNvSpPr/>
          <p:nvPr/>
        </p:nvSpPr>
        <p:spPr>
          <a:xfrm>
            <a:off x="696240" y="324000"/>
            <a:ext cx="38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Campanha 2007/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ACT FUMACA.mpg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488000" cy="5615280"/>
          </a:xfrm>
          <a:prstGeom prst="rect">
            <a:avLst/>
          </a:prstGeom>
          <a:ln w="0">
            <a:noFill/>
          </a:ln>
        </p:spPr>
      </p:pic>
      <p:pic>
        <p:nvPicPr>
          <p:cNvPr id="291" name="ACTBR entrevista V2_1.mp3" descr=""/>
          <p:cNvPicPr/>
          <p:nvPr/>
        </p:nvPicPr>
        <p:blipFill>
          <a:blip r:embed="rId2"/>
          <a:stretch/>
        </p:blipFill>
        <p:spPr>
          <a:xfrm>
            <a:off x="8172360" y="3546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655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tângulo 7"/>
          <p:cNvSpPr/>
          <p:nvPr/>
        </p:nvSpPr>
        <p:spPr>
          <a:xfrm>
            <a:off x="0" y="1428840"/>
            <a:ext cx="87868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ade de São Paulo – 2007 – 88% de apoio e 85% de fum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sil – 2008 - 88% de apoio e 80% de fumantes -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reqüência a restaurantes e bares se manteria ou au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aixaDeTexto 1"/>
          <p:cNvSpPr/>
          <p:nvPr/>
        </p:nvSpPr>
        <p:spPr>
          <a:xfrm>
            <a:off x="483120" y="260280"/>
            <a:ext cx="37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Pesquisas de opini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Imagem 9" descr="adesivo_apoio.jpg"/>
          <p:cNvPicPr/>
          <p:nvPr/>
        </p:nvPicPr>
        <p:blipFill>
          <a:blip r:embed="rId1"/>
          <a:stretch/>
        </p:blipFill>
        <p:spPr>
          <a:xfrm>
            <a:off x="3390840" y="3357720"/>
            <a:ext cx="269388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78920" y="1268280"/>
            <a:ext cx="8850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Arial"/>
              </a:rPr>
              <a:t>Audiência com Governador em 16 de julho de 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Calibri"/>
                <a:ea typeface="Arial"/>
              </a:rPr>
              <a:t>Projeto de Lei proposto em 28 de agosto de 20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Título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5473800" cy="811080"/>
          </a:xfrm>
          <a:prstGeom prst="rect">
            <a:avLst/>
          </a:prstGeom>
          <a:ln w="0">
            <a:noFill/>
          </a:ln>
        </p:spPr>
      </p:pic>
      <p:sp>
        <p:nvSpPr>
          <p:cNvPr id="297" name="Retângulo 4"/>
          <p:cNvSpPr/>
          <p:nvPr/>
        </p:nvSpPr>
        <p:spPr>
          <a:xfrm>
            <a:off x="28440" y="2133720"/>
            <a:ext cx="900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vid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A exposição à fumaça ambiental de tabaco causa graves danos à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Não há níveis seguros de exposição e não há tecnologia de engenharia de ventilação efic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utros argument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ei 9294/96 não oferecia proteção efe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Marcos legais:  Constituição Federal,  CLT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QC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periência internacional bem-suc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População apóia a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\\ACTSP-SERVIDOR\Servidor\Fotos\ALESP 1aAudPubl.Set08 ALT\DSC00003.JPG"/>
          <p:cNvPicPr/>
          <p:nvPr/>
        </p:nvPicPr>
        <p:blipFill>
          <a:blip r:embed="rId1"/>
          <a:stretch/>
        </p:blipFill>
        <p:spPr>
          <a:xfrm>
            <a:off x="774720" y="1285920"/>
            <a:ext cx="3297240" cy="2471760"/>
          </a:xfrm>
          <a:prstGeom prst="rect">
            <a:avLst/>
          </a:prstGeom>
          <a:ln w="0">
            <a:noFill/>
          </a:ln>
        </p:spPr>
      </p:pic>
      <p:sp>
        <p:nvSpPr>
          <p:cNvPr id="299" name="Retângulo 9"/>
          <p:cNvSpPr/>
          <p:nvPr/>
        </p:nvSpPr>
        <p:spPr>
          <a:xfrm>
            <a:off x="179280" y="28584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Advocacy na AL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\\ACTSP-SERVIDOR\Servidor\Fotos\ALESP 1aAudPubl.Set08 ALT\DSC00004.JPG"/>
          <p:cNvPicPr/>
          <p:nvPr/>
        </p:nvPicPr>
        <p:blipFill>
          <a:blip r:embed="rId2"/>
          <a:stretch/>
        </p:blipFill>
        <p:spPr>
          <a:xfrm>
            <a:off x="4718160" y="150336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301" name="Imagem 8" descr="IMG_2313.JPG"/>
          <p:cNvPicPr/>
          <p:nvPr/>
        </p:nvPicPr>
        <p:blipFill>
          <a:blip r:embed="rId3"/>
          <a:stretch/>
        </p:blipFill>
        <p:spPr>
          <a:xfrm>
            <a:off x="774720" y="4332240"/>
            <a:ext cx="3330720" cy="1855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4"/>
          <a:stretch/>
        </p:blipFill>
        <p:spPr>
          <a:xfrm>
            <a:off x="5219640" y="3800520"/>
            <a:ext cx="2211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Imagem 5" descr="FSP180209.jpg"/>
          <p:cNvPicPr/>
          <p:nvPr/>
        </p:nvPicPr>
        <p:blipFill>
          <a:blip r:embed="rId1"/>
          <a:stretch/>
        </p:blipFill>
        <p:spPr>
          <a:xfrm>
            <a:off x="398520" y="1422360"/>
            <a:ext cx="3263760" cy="4559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4930920" y="1317600"/>
            <a:ext cx="2952720" cy="2800440"/>
          </a:xfrm>
          <a:prstGeom prst="rect">
            <a:avLst/>
          </a:prstGeom>
          <a:ln w="0">
            <a:noFill/>
          </a:ln>
        </p:spPr>
      </p:pic>
      <p:sp>
        <p:nvSpPr>
          <p:cNvPr id="305" name="CaixaDeTexto 9"/>
          <p:cNvSpPr/>
          <p:nvPr/>
        </p:nvSpPr>
        <p:spPr>
          <a:xfrm>
            <a:off x="531000" y="115920"/>
            <a:ext cx="391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Pesquisas de opinião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Contato com mí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C:\Users\Mônica\Pictures\Tabagismo - Diversas\MateriasLeiALTSP\Estadao311008.jpg"/>
          <p:cNvPicPr/>
          <p:nvPr/>
        </p:nvPicPr>
        <p:blipFill>
          <a:blip r:embed="rId3"/>
          <a:stretch/>
        </p:blipFill>
        <p:spPr>
          <a:xfrm>
            <a:off x="4067280" y="4365720"/>
            <a:ext cx="46800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tângulo 1"/>
          <p:cNvSpPr/>
          <p:nvPr/>
        </p:nvSpPr>
        <p:spPr>
          <a:xfrm>
            <a:off x="477720" y="115920"/>
            <a:ext cx="56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Segoe Print"/>
              </a:rPr>
              <a:t>Campanha: “Quem não fuma não é obrigado a fumar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ACT Spot.mp3" descr=""/>
          <p:cNvPicPr/>
          <p:nvPr/>
        </p:nvPicPr>
        <p:blipFill>
          <a:blip r:embed="rId1"/>
          <a:stretch/>
        </p:blipFill>
        <p:spPr>
          <a:xfrm>
            <a:off x="4608360" y="6083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09" name="campanha_quemnaofuma.mpg" descr=""/>
          <p:cNvPicPr/>
          <p:nvPr/>
        </p:nvPicPr>
        <p:blipFill>
          <a:blip r:embed="rId2"/>
          <a:stretch/>
        </p:blipFill>
        <p:spPr>
          <a:xfrm>
            <a:off x="250920" y="1117440"/>
            <a:ext cx="854064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0182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www.actbr.org.br/imagens/top_barra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4214880"/>
            <a:ext cx="7597800" cy="225900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3" descr="fotos eventos 092.JPG"/>
          <p:cNvPicPr/>
          <p:nvPr/>
        </p:nvPicPr>
        <p:blipFill>
          <a:blip r:embed="rId3"/>
          <a:stretch/>
        </p:blipFill>
        <p:spPr>
          <a:xfrm>
            <a:off x="4572000" y="142884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312" name="Retângulo 3"/>
          <p:cNvSpPr/>
          <p:nvPr/>
        </p:nvSpPr>
        <p:spPr>
          <a:xfrm>
            <a:off x="285840" y="1500120"/>
            <a:ext cx="407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stagnação d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bilização da mí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Título 2" descr=""/>
          <p:cNvPicPr/>
          <p:nvPr/>
        </p:nvPicPr>
        <p:blipFill>
          <a:blip r:embed="rId4"/>
          <a:stretch/>
        </p:blipFill>
        <p:spPr>
          <a:xfrm>
            <a:off x="237960" y="171360"/>
            <a:ext cx="5632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tângulo 4"/>
          <p:cNvSpPr/>
          <p:nvPr/>
        </p:nvSpPr>
        <p:spPr>
          <a:xfrm>
            <a:off x="319680" y="21420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Print"/>
              </a:rPr>
              <a:t>Desaf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ixaDeTexto 9"/>
          <p:cNvSpPr/>
          <p:nvPr/>
        </p:nvSpPr>
        <p:spPr>
          <a:xfrm>
            <a:off x="1163520" y="1125360"/>
            <a:ext cx="708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osição da indústria do tabaco e seus al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ublicidade paga em defesa dos fumódr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Imagem 6" descr="A.PagoFSP290309.jpg"/>
          <p:cNvPicPr/>
          <p:nvPr/>
        </p:nvPicPr>
        <p:blipFill>
          <a:blip r:embed="rId1"/>
          <a:stretch/>
        </p:blipFill>
        <p:spPr>
          <a:xfrm>
            <a:off x="1619280" y="2665440"/>
            <a:ext cx="2259000" cy="3757680"/>
          </a:xfrm>
          <a:prstGeom prst="rect">
            <a:avLst/>
          </a:prstGeom>
          <a:ln w="0">
            <a:noFill/>
          </a:ln>
        </p:spPr>
      </p:pic>
      <p:pic>
        <p:nvPicPr>
          <p:cNvPr id="317" name="Imagem 8" descr="A.PagoEstadao010409.jpg"/>
          <p:cNvPicPr/>
          <p:nvPr/>
        </p:nvPicPr>
        <p:blipFill>
          <a:blip r:embed="rId2"/>
          <a:stretch/>
        </p:blipFill>
        <p:spPr>
          <a:xfrm>
            <a:off x="4500720" y="2652840"/>
            <a:ext cx="283824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m 3" descr="Estadao070409.jpg"/>
          <p:cNvPicPr/>
          <p:nvPr/>
        </p:nvPicPr>
        <p:blipFill>
          <a:blip r:embed="rId1"/>
          <a:stretch/>
        </p:blipFill>
        <p:spPr>
          <a:xfrm>
            <a:off x="539640" y="1693800"/>
            <a:ext cx="2497320" cy="4417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3780000" y="2079720"/>
            <a:ext cx="451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Imagem 18" descr="ALESP4 070409.jpg"/>
          <p:cNvPicPr/>
          <p:nvPr/>
        </p:nvPicPr>
        <p:blipFill>
          <a:blip r:embed="rId1"/>
          <a:stretch/>
        </p:blipFill>
        <p:spPr>
          <a:xfrm>
            <a:off x="5389560" y="3929040"/>
            <a:ext cx="3754440" cy="2413080"/>
          </a:xfrm>
          <a:prstGeom prst="rect">
            <a:avLst/>
          </a:prstGeom>
          <a:ln w="0">
            <a:noFill/>
          </a:ln>
        </p:spPr>
      </p:pic>
      <p:pic>
        <p:nvPicPr>
          <p:cNvPr id="321" name="Imagem 8" descr="ALESP70409.jpg"/>
          <p:cNvPicPr/>
          <p:nvPr/>
        </p:nvPicPr>
        <p:blipFill>
          <a:blip r:embed="rId2"/>
          <a:stretch/>
        </p:blipFill>
        <p:spPr>
          <a:xfrm>
            <a:off x="4427640" y="1095480"/>
            <a:ext cx="3833640" cy="2874960"/>
          </a:xfrm>
          <a:prstGeom prst="rect">
            <a:avLst/>
          </a:prstGeom>
          <a:ln w="0">
            <a:noFill/>
          </a:ln>
        </p:spPr>
      </p:pic>
      <p:pic>
        <p:nvPicPr>
          <p:cNvPr id="322" name="Imagem 4" descr="IMG_2280.JPG"/>
          <p:cNvPicPr/>
          <p:nvPr/>
        </p:nvPicPr>
        <p:blipFill>
          <a:blip r:embed="rId3"/>
          <a:stretch/>
        </p:blipFill>
        <p:spPr>
          <a:xfrm>
            <a:off x="289080" y="3562200"/>
            <a:ext cx="3644640" cy="2779920"/>
          </a:xfrm>
          <a:prstGeom prst="rect">
            <a:avLst/>
          </a:prstGeom>
          <a:ln w="0">
            <a:noFill/>
          </a:ln>
        </p:spPr>
      </p:pic>
      <p:pic>
        <p:nvPicPr>
          <p:cNvPr id="323" name="Imagem 1" descr=""/>
          <p:cNvPicPr/>
          <p:nvPr/>
        </p:nvPicPr>
        <p:blipFill>
          <a:blip r:embed="rId4"/>
          <a:stretch/>
        </p:blipFill>
        <p:spPr>
          <a:xfrm>
            <a:off x="295200" y="1268280"/>
            <a:ext cx="36464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Estado de São Paulo tem uma lei antifumo des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896000" cy="34322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65" name="Título 2" descr=""/>
          <p:cNvPicPr/>
          <p:nvPr/>
        </p:nvPicPr>
        <p:blipFill>
          <a:blip r:embed="rId2"/>
          <a:stretch/>
        </p:blipFill>
        <p:spPr>
          <a:xfrm>
            <a:off x="298440" y="189000"/>
            <a:ext cx="56325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Imagem 4" descr="FSP080409III.JPG"/>
          <p:cNvPicPr/>
          <p:nvPr/>
        </p:nvPicPr>
        <p:blipFill>
          <a:blip r:embed="rId1"/>
          <a:stretch/>
        </p:blipFill>
        <p:spPr>
          <a:xfrm>
            <a:off x="1763640" y="404640"/>
            <a:ext cx="4500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249120" y="1484280"/>
            <a:ext cx="5473800" cy="2766960"/>
          </a:xfrm>
          <a:prstGeom prst="rect">
            <a:avLst/>
          </a:prstGeom>
          <a:ln w="0">
            <a:noFill/>
          </a:ln>
        </p:spPr>
      </p:pic>
      <p:pic>
        <p:nvPicPr>
          <p:cNvPr id="326" name="Imagem 6" descr="materia.jpg"/>
          <p:cNvPicPr/>
          <p:nvPr/>
        </p:nvPicPr>
        <p:blipFill>
          <a:blip r:embed="rId2"/>
          <a:stretch/>
        </p:blipFill>
        <p:spPr>
          <a:xfrm>
            <a:off x="6084720" y="2205000"/>
            <a:ext cx="2551320" cy="3583080"/>
          </a:xfrm>
          <a:prstGeom prst="rect">
            <a:avLst/>
          </a:prstGeom>
          <a:ln w="0">
            <a:noFill/>
          </a:ln>
        </p:spPr>
      </p:pic>
      <p:pic>
        <p:nvPicPr>
          <p:cNvPr id="327" name="Título 1" descr=""/>
          <p:cNvPicPr/>
          <p:nvPr/>
        </p:nvPicPr>
        <p:blipFill>
          <a:blip r:embed="rId3"/>
          <a:stretch/>
        </p:blipFill>
        <p:spPr>
          <a:xfrm>
            <a:off x="212760" y="182520"/>
            <a:ext cx="6303960" cy="811080"/>
          </a:xfrm>
          <a:prstGeom prst="rect">
            <a:avLst/>
          </a:prstGeom>
          <a:ln w="0">
            <a:noFill/>
          </a:ln>
        </p:spPr>
      </p:pic>
      <p:pic>
        <p:nvPicPr>
          <p:cNvPr id="328" name="Imagem 6" descr="1900.jpg"/>
          <p:cNvPicPr/>
          <p:nvPr/>
        </p:nvPicPr>
        <p:blipFill>
          <a:blip r:embed="rId4"/>
          <a:stretch/>
        </p:blipFill>
        <p:spPr>
          <a:xfrm>
            <a:off x="1960560" y="4716360"/>
            <a:ext cx="2050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ítulo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5473800" cy="811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C:\Users\Mônica\Pictures\Tabagismo diversas\MateriasLeiALTSP\SPFC.jpg"/>
          <p:cNvPicPr/>
          <p:nvPr/>
        </p:nvPicPr>
        <p:blipFill>
          <a:blip r:embed="rId2"/>
          <a:stretch/>
        </p:blipFill>
        <p:spPr>
          <a:xfrm>
            <a:off x="482760" y="1341360"/>
            <a:ext cx="4144680" cy="2063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C:\Users\Monica\AppData\Local\Microsoft\Windows\Temporary Internet Files\Content.Outlook\1D3TV8VN\Campos do Jordão julho 2009 (2).jpg"/>
          <p:cNvPicPr/>
          <p:nvPr/>
        </p:nvPicPr>
        <p:blipFill>
          <a:blip r:embed="rId3"/>
          <a:stretch/>
        </p:blipFill>
        <p:spPr>
          <a:xfrm>
            <a:off x="4802040" y="1258920"/>
            <a:ext cx="3429000" cy="2570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C:\Users\ACTBR\Desktop\Ampulheta São Paulo julho 2009.jpg"/>
          <p:cNvPicPr/>
          <p:nvPr/>
        </p:nvPicPr>
        <p:blipFill>
          <a:blip r:embed="rId4"/>
          <a:stretch/>
        </p:blipFill>
        <p:spPr>
          <a:xfrm>
            <a:off x="482760" y="3579840"/>
            <a:ext cx="2233440" cy="2975040"/>
          </a:xfrm>
          <a:prstGeom prst="rect">
            <a:avLst/>
          </a:prstGeom>
          <a:ln w="0">
            <a:noFill/>
          </a:ln>
        </p:spPr>
      </p:pic>
      <p:pic>
        <p:nvPicPr>
          <p:cNvPr id="333" name="Imagem 4" descr="Cartao 4 meses Lei Antifumo S.Paulo.jpg"/>
          <p:cNvPicPr/>
          <p:nvPr/>
        </p:nvPicPr>
        <p:blipFill>
          <a:blip r:embed="rId5"/>
          <a:stretch/>
        </p:blipFill>
        <p:spPr>
          <a:xfrm>
            <a:off x="7196040" y="4092480"/>
            <a:ext cx="1947960" cy="2735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\\ACTSP-SERVIDOR\Servidor\Fotos\Sanção Lei SP\100_0683.JPG"/>
          <p:cNvPicPr/>
          <p:nvPr/>
        </p:nvPicPr>
        <p:blipFill>
          <a:blip r:embed="rId6"/>
          <a:stretch/>
        </p:blipFill>
        <p:spPr>
          <a:xfrm>
            <a:off x="2411280" y="4089240"/>
            <a:ext cx="2665440" cy="1997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\\ACTSP-SERVIDOR\Servidor\Projetos\ALT\Documentos escaneados\Materias 253.jpg"/>
          <p:cNvPicPr/>
          <p:nvPr/>
        </p:nvPicPr>
        <p:blipFill>
          <a:blip r:embed="rId7"/>
          <a:stretch/>
        </p:blipFill>
        <p:spPr>
          <a:xfrm>
            <a:off x="5148360" y="4092480"/>
            <a:ext cx="18651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LEI ANTIFUMO   DIA D.wmv" descr=""/>
          <p:cNvPicPr/>
          <p:nvPr/>
        </p:nvPicPr>
        <p:blipFill>
          <a:blip r:embed="rId1"/>
          <a:stretch/>
        </p:blipFill>
        <p:spPr>
          <a:xfrm>
            <a:off x="539640" y="1143000"/>
            <a:ext cx="75121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6804000" y="4164120"/>
            <a:ext cx="2340000" cy="2693880"/>
          </a:xfrm>
          <a:prstGeom prst="rect">
            <a:avLst/>
          </a:prstGeom>
          <a:ln w="0">
            <a:noFill/>
          </a:ln>
        </p:spPr>
      </p:pic>
      <p:sp>
        <p:nvSpPr>
          <p:cNvPr id="338" name="Retângulo 4"/>
          <p:cNvSpPr/>
          <p:nvPr/>
        </p:nvSpPr>
        <p:spPr>
          <a:xfrm>
            <a:off x="0" y="1461960"/>
            <a:ext cx="892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4% de apoio à lei, 87% de apoio por fumantes  (01 mês apó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dução de até 94% da nicotina no ar em bares após a lei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¹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ção do monóxido de carbon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9,8% - adesão dos estabelecimentos (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0,23% do total de 473 mil vistorias - 2 anos apó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mento de casas noturnas, bares e restaurantes cresceu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4836960" y="4292640"/>
            <a:ext cx="1895760" cy="2565360"/>
          </a:xfrm>
          <a:prstGeom prst="rect">
            <a:avLst/>
          </a:prstGeom>
          <a:ln w="0">
            <a:noFill/>
          </a:ln>
        </p:spPr>
      </p:pic>
      <p:sp>
        <p:nvSpPr>
          <p:cNvPr id="340" name="Espaço Reservado para Rodapé 8"/>
          <p:cNvSpPr/>
          <p:nvPr/>
        </p:nvSpPr>
        <p:spPr>
          <a:xfrm>
            <a:off x="250920" y="5300640"/>
            <a:ext cx="42498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Andreis, M e cols, Qualidade do ar em bares de SP antes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depois da lei de ambientes fechados livres de fumo, Rev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Brasileira de Cancerologia, 2011:57(3):315-3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. Issa, JS, The effect of Sao Paulo’s smoke-free legislation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arbon monoxide concentration in hospitality venues and their workers, Tobacco Control, 2011;20:156-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ixaDeTexto 1"/>
          <p:cNvSpPr/>
          <p:nvPr/>
        </p:nvSpPr>
        <p:spPr>
          <a:xfrm>
            <a:off x="367920" y="23508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Segoe Print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tângulo 4"/>
          <p:cNvSpPr/>
          <p:nvPr/>
        </p:nvSpPr>
        <p:spPr>
          <a:xfrm>
            <a:off x="249120" y="134136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ção de consumo e maior procura por tra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ção de prevalência do tabag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eito dominó: Estados e Municípios aprovaram leis semelh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i Federal 12546 em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ixaDeTexto 5"/>
          <p:cNvSpPr/>
          <p:nvPr/>
        </p:nvSpPr>
        <p:spPr>
          <a:xfrm>
            <a:off x="367920" y="23508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Segoe Print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3" descr=""/>
          <p:cNvPicPr/>
          <p:nvPr/>
        </p:nvPicPr>
        <p:blipFill>
          <a:blip r:embed="rId1"/>
          <a:stretch/>
        </p:blipFill>
        <p:spPr>
          <a:xfrm>
            <a:off x="1042920" y="3943440"/>
            <a:ext cx="4327560" cy="2017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Users\Mônica\Pictures\Tabagismo - Diversas\MateriasLeiALTSP\FSP170509.jpg"/>
          <p:cNvPicPr/>
          <p:nvPr/>
        </p:nvPicPr>
        <p:blipFill>
          <a:blip r:embed="rId2"/>
          <a:stretch/>
        </p:blipFill>
        <p:spPr>
          <a:xfrm>
            <a:off x="5854680" y="2857680"/>
            <a:ext cx="29876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30760"/>
            <a:ext cx="5472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0" y="1320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Pesquisa Vigitel: São Paulo em 2010 tinha 20% de adultos fumantes; em 2013, 14,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Pesquisa do governo federal revela que numero de fumantes ca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20% em seis anos (30/8/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C:\Users\Mônica\Pictures\Tabagismo - Diversas\FSP PLOS.gif"/>
          <p:cNvPicPr/>
          <p:nvPr/>
        </p:nvPicPr>
        <p:blipFill>
          <a:blip r:embed="rId1"/>
          <a:srcRect l="0" t="67844" r="72037" b="0"/>
          <a:stretch/>
        </p:blipFill>
        <p:spPr>
          <a:xfrm>
            <a:off x="1692360" y="3506760"/>
            <a:ext cx="2252520" cy="3308400"/>
          </a:xfrm>
          <a:prstGeom prst="rect">
            <a:avLst/>
          </a:prstGeom>
          <a:ln w="0">
            <a:noFill/>
          </a:ln>
        </p:spPr>
      </p:pic>
      <p:sp>
        <p:nvSpPr>
          <p:cNvPr id="349" name="Retângulo 5"/>
          <p:cNvSpPr/>
          <p:nvPr/>
        </p:nvSpPr>
        <p:spPr>
          <a:xfrm>
            <a:off x="4067280" y="5805360"/>
            <a:ext cx="4424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evy D, de Almeida LM, Szklo A (2012) The Brazil SimSmoke Policy Simulation Model: The Effect of Strong Tobacco Control Policies on Smoking Prevalence and Smoking-Attributable Deaths in a Middle Income Nation. PLoS Med 9(11): e1001336. doi:10.1371/journal.pmed.10013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ítulo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5473800" cy="811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Users\Monica\AppData\Local\Microsoft\Windows\Temporary Internet Files\Content.Outlook\JPGSGC7N\slide-25-638 tabagismo passivo domicilio.jpg"/>
          <p:cNvPicPr/>
          <p:nvPr/>
        </p:nvPicPr>
        <p:blipFill>
          <a:blip r:embed="rId2"/>
          <a:stretch/>
        </p:blipFill>
        <p:spPr>
          <a:xfrm>
            <a:off x="-19080" y="1079640"/>
            <a:ext cx="5022720" cy="3300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Users\Monica\AppData\Local\Microsoft\Windows\Temporary Internet Files\Content.Outlook\JPGSGC7N\slide-26-638 tabagismo passivo trabalho.jpg"/>
          <p:cNvPicPr/>
          <p:nvPr/>
        </p:nvPicPr>
        <p:blipFill>
          <a:blip r:embed="rId3"/>
          <a:stretch/>
        </p:blipFill>
        <p:spPr>
          <a:xfrm>
            <a:off x="4533840" y="3787920"/>
            <a:ext cx="46227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tângulo 3"/>
          <p:cNvSpPr/>
          <p:nvPr/>
        </p:nvSpPr>
        <p:spPr>
          <a:xfrm>
            <a:off x="430200" y="2349360"/>
            <a:ext cx="8391600" cy="230364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Segoe Print"/>
              </a:rPr>
              <a:t>Processo de Conscientiz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Segoe Print"/>
              </a:rPr>
              <a:t>e Mudança de Atitude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Segoe Print"/>
              </a:rPr>
              <a:t>Relação ao F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Mudança na aceitação social do tabag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ço Reservado para Conteúdo 3"/>
          <p:cNvSpPr/>
          <p:nvPr/>
        </p:nvSpPr>
        <p:spPr>
          <a:xfrm>
            <a:off x="4440240" y="522936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85640" y="177336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esar de todas as evidências, aprovar e implementar leis de ALT é ainda um desaf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ria interesses da indústria do tabaco, que mobiliza aliados para se opor a esta med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amentos judiciais  ainda estão em andamento no ST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trabalho continua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Espaço Reservado para Conteúdo 4"/>
          <p:cNvSpPr/>
          <p:nvPr/>
        </p:nvSpPr>
        <p:spPr>
          <a:xfrm>
            <a:off x="179280" y="1052640"/>
            <a:ext cx="89298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206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Estratégias de Advoca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idências Científ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ão de esforç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ção local/ Pesquisas de opinião/ Campan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to com mí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ocacy com lideranç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io na implementação e avaliaçã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Vontade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olítica de 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ampanh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Website e linha telefô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Decreto regulamenta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reino de fiscais/ implement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7"/>
          <p:cNvSpPr/>
          <p:nvPr/>
        </p:nvSpPr>
        <p:spPr>
          <a:xfrm>
            <a:off x="170640" y="522936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Segoe Print"/>
              </a:rPr>
              <a:t>Go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aixaDeTexto 8"/>
          <p:cNvSpPr/>
          <p:nvPr/>
        </p:nvSpPr>
        <p:spPr>
          <a:xfrm>
            <a:off x="6057000" y="2637000"/>
            <a:ext cx="29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Segoe Print"/>
              </a:rPr>
              <a:t>Sociedade Civ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Título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547380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tângulo 3"/>
          <p:cNvSpPr/>
          <p:nvPr/>
        </p:nvSpPr>
        <p:spPr>
          <a:xfrm>
            <a:off x="395280" y="126828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rticipação da sociedade civil organizada foi muito importante para contrapor os argumentos de aliados da indústria do tabaco e conseguir a aprovação e a efetiva implementação da lei em SP e outros E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 nível federal, temos trabalhado pela publicação do decreto regulamentador e efetiva implement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124000" y="4713120"/>
            <a:ext cx="48243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78920" y="1052640"/>
            <a:ext cx="87138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experiência de controle do tabagismo pode ser útil para o controle de outros fatores de risco, como o uso abusivo de álcool 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portância do trabalho em rede e Advoca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. Costa e Silva, V. L., Pantani, D., Andreis, M., Sparks, R. and Pinsky, I. (2013), Bridging the gap between science and public health: taking advantage of tobacco control experience in Brazil to inform policies to counter risk factors for non-communicable diseases. Addiction, 108: 1360–1366. doi: 10.1111/add.122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1828800" cy="2589120"/>
          </a:xfrm>
          <a:prstGeom prst="rect">
            <a:avLst/>
          </a:prstGeom>
          <a:ln w="9360">
            <a:solidFill>
              <a:srgbClr val="5a6378"/>
            </a:solidFill>
            <a:miter/>
          </a:ln>
        </p:spPr>
      </p:pic>
      <p:sp>
        <p:nvSpPr>
          <p:cNvPr id="360" name="Retângulo 7"/>
          <p:cNvSpPr/>
          <p:nvPr/>
        </p:nvSpPr>
        <p:spPr>
          <a:xfrm>
            <a:off x="536400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ação O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aho.org/b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2050920" y="4076640"/>
            <a:ext cx="48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168bba"/>
                </a:solidFill>
                <a:uFillTx/>
                <a:latin typeface="Calibri"/>
                <a:hlinkClick r:id="rId1"/>
              </a:rPr>
              <a:t>www.actbr.org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n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168bba"/>
                </a:solidFill>
                <a:uFillTx/>
                <a:latin typeface="Calibri"/>
                <a:hlinkClick r:id="rId2"/>
              </a:rPr>
              <a:t>monica.andreis@actbr.org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80" y="2276640"/>
            <a:ext cx="8229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f4e05"/>
                </a:solidFill>
                <a:latin typeface="Calibri"/>
              </a:rPr>
              <a:t>OBRIGADA pela aten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4e05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f4e05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df4e05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df4e05"/>
                </a:solidFill>
                <a:latin typeface="Calibri"/>
              </a:rPr>
              <a:t>PARTICIPE você também!</a:t>
            </a:r>
            <a:r>
              <a:rPr b="0" lang="pt-BR" sz="2800" spc="-1" strike="noStrike">
                <a:solidFill>
                  <a:srgbClr val="df4e05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3964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6 milhões de mortes anuais no mundo estão associadas a doenças tabaco-relacion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Report on the Global Tobacco Epidemic,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o Brasil, estima-se que 130.000 mortes ocorram anualmente devido ao tabagismo ativo, e </a:t>
            </a:r>
            <a:r>
              <a:rPr b="0" i="1" lang="pt-BR" sz="2800" spc="-1" strike="noStrike">
                <a:solidFill>
                  <a:srgbClr val="c00000"/>
                </a:solidFill>
                <a:latin typeface="Calibri"/>
              </a:rPr>
              <a:t>ao menos 07 mortes ao dia estão relacionadas à exposição ao fumo passiv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arga das doenças tabaco relacionadas para o Brasil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ortalidade atribuível ao tabagismo passivo na população urbana do Brasil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Título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5626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Imagem 4" descr="http://www.actbr.org.br/blog/wp-content/uploads/2014/01/novasdoencastabaco2013.png"/>
          <p:cNvPicPr/>
          <p:nvPr/>
        </p:nvPicPr>
        <p:blipFill>
          <a:blip r:embed="rId1"/>
          <a:stretch/>
        </p:blipFill>
        <p:spPr>
          <a:xfrm>
            <a:off x="0" y="3075120"/>
            <a:ext cx="2987640" cy="2563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3995640" y="1778040"/>
            <a:ext cx="4753080" cy="3957480"/>
          </a:xfrm>
          <a:prstGeom prst="rect">
            <a:avLst/>
          </a:prstGeom>
          <a:ln w="12600">
            <a:solidFill>
              <a:srgbClr val="c00000"/>
            </a:solidFill>
            <a:miter/>
          </a:ln>
        </p:spPr>
      </p:pic>
      <p:sp>
        <p:nvSpPr>
          <p:cNvPr id="274" name="Retângulo 3"/>
          <p:cNvSpPr/>
          <p:nvPr/>
        </p:nvSpPr>
        <p:spPr>
          <a:xfrm>
            <a:off x="34920" y="580536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Health Consequences of Smoking—50 Years of Progress: A Report of the Surgeon General. Atlanta, GA: U.S. Department of Health and Human Services, Centers for Disease Control and Prevention, National Center for Chronic Disease Prevention and Health Promotion, Office on Smoking and Health, 20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Título 2" descr=""/>
          <p:cNvPicPr/>
          <p:nvPr/>
        </p:nvPicPr>
        <p:blipFill>
          <a:blip r:embed="rId3"/>
          <a:stretch/>
        </p:blipFill>
        <p:spPr>
          <a:xfrm>
            <a:off x="36360" y="171360"/>
            <a:ext cx="69930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8564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 fumaça ambiental de tabaco (FAT) é considerada o principal poluente em ambientes internos, não existindo níveis seguros de exposi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uidelines on Protection from exposure to tobacco smoke - article 8 of the WHO FCTC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ço Reservado para Conteúdo 3"/>
          <p:cNvSpPr/>
          <p:nvPr/>
        </p:nvSpPr>
        <p:spPr>
          <a:xfrm>
            <a:off x="420840" y="3645000"/>
            <a:ext cx="853416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 separação de fumantes e não-fumantes em locais fechados não elimina os riscos de exposição aos componentes tóxicos da fumaça, mesmo com o uso de sistemas de ventilação ou renovação do 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HVA - Federation of European Heating and Air-conditioning Associations. Ventilation and smoking: reducing the exposure to ETS in buildings.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Brussels: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98360" y="2631960"/>
            <a:ext cx="8731440" cy="3810240"/>
          </a:xfrm>
          <a:prstGeom prst="rect">
            <a:avLst/>
          </a:prstGeom>
          <a:ln w="0">
            <a:noFill/>
          </a:ln>
        </p:spPr>
      </p:pic>
      <p:sp>
        <p:nvSpPr>
          <p:cNvPr id="279" name="Retângulo 3"/>
          <p:cNvSpPr/>
          <p:nvPr/>
        </p:nvSpPr>
        <p:spPr>
          <a:xfrm>
            <a:off x="5797800" y="6440400"/>
            <a:ext cx="23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http://www.who.int/tobacco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tângulo 4"/>
          <p:cNvSpPr/>
          <p:nvPr/>
        </p:nvSpPr>
        <p:spPr>
          <a:xfrm>
            <a:off x="252360" y="1125360"/>
            <a:ext cx="869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 Convenção Quadro para o Controle do Tabaco recomenda que os países adotem leis que proíbam o fumo em ambientes fechados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(Artigo 8º e Diretriz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Espaço Reservado para Conteúdo 4"/>
          <p:cNvSpPr/>
          <p:nvPr/>
        </p:nvSpPr>
        <p:spPr>
          <a:xfrm>
            <a:off x="214200" y="1052640"/>
            <a:ext cx="89298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riação de um Comitê Estadual para promoção de ambientes livres de tabaco, criado em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ançamento do “Selo Ambiente Livre do Tabaco” para empresas que adotam AL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união de esforços contribuiu para o deb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úblico sobre o tema e o avanço da propo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 uma lei estadual antif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Título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6303960" cy="811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\\ACTSP-SERVIDOR\Servidor\Fotos\FotosEventoSelo020709\Imagem 003.jpg"/>
          <p:cNvPicPr/>
          <p:nvPr/>
        </p:nvPicPr>
        <p:blipFill>
          <a:blip r:embed="rId2"/>
          <a:stretch/>
        </p:blipFill>
        <p:spPr>
          <a:xfrm>
            <a:off x="6516720" y="3573360"/>
            <a:ext cx="2017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tângulo 3"/>
          <p:cNvSpPr/>
          <p:nvPr/>
        </p:nvSpPr>
        <p:spPr>
          <a:xfrm>
            <a:off x="1413000" y="4041720"/>
            <a:ext cx="64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alquer ambiente fechado é pequeno demais para o cigarr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79280" y="1225440"/>
            <a:ext cx="4138560" cy="2708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4454640" y="1225440"/>
            <a:ext cx="4441680" cy="2708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3"/>
          <a:stretch/>
        </p:blipFill>
        <p:spPr>
          <a:xfrm>
            <a:off x="3132000" y="4429080"/>
            <a:ext cx="2995920" cy="2290680"/>
          </a:xfrm>
          <a:prstGeom prst="rect">
            <a:avLst/>
          </a:prstGeom>
          <a:ln w="0">
            <a:noFill/>
          </a:ln>
        </p:spPr>
      </p:pic>
      <p:pic>
        <p:nvPicPr>
          <p:cNvPr id="288" name="Título 2" descr=""/>
          <p:cNvPicPr/>
          <p:nvPr/>
        </p:nvPicPr>
        <p:blipFill>
          <a:blip r:embed="rId4"/>
          <a:stretch/>
        </p:blipFill>
        <p:spPr>
          <a:xfrm>
            <a:off x="109440" y="42840"/>
            <a:ext cx="64929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19:43:07Z</dcterms:created>
  <dc:creator>Paula Johns</dc:creator>
  <dc:description/>
  <dc:language>en-US</dc:language>
  <cp:lastModifiedBy>Mônica</cp:lastModifiedBy>
  <dcterms:modified xsi:type="dcterms:W3CDTF">2014-05-20T13:02:50Z</dcterms:modified>
  <cp:revision>639</cp:revision>
  <dc:subject/>
  <dc:title>Slide sem título</dc:title>
</cp:coreProperties>
</file>