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18.png" ContentType="image/png"/>
  <Override PartName="/ppt/media/image56.png" ContentType="image/png"/>
  <Override PartName="/ppt/media/image40.jpeg" ContentType="image/jpeg"/>
  <Override PartName="/ppt/media/image53.jpeg" ContentType="image/jpeg"/>
  <Override PartName="/ppt/media/image2.jpeg" ContentType="image/jpeg"/>
  <Override PartName="/ppt/media/image57.png" ContentType="image/png"/>
  <Override PartName="/ppt/media/image26.jpeg" ContentType="image/jpeg"/>
  <Override PartName="/ppt/media/image32.png" ContentType="image/png"/>
  <Override PartName="/ppt/media/image25.jpeg" ContentType="image/jpeg"/>
  <Override PartName="/ppt/media/image4.jpeg" ContentType="image/jpeg"/>
  <Override PartName="/ppt/media/image50.jpeg" ContentType="image/jpeg"/>
  <Override PartName="/ppt/media/image27.jpeg" ContentType="image/jpeg"/>
  <Override PartName="/ppt/media/image20.png" ContentType="image/png"/>
  <Override PartName="/ppt/media/image37.jpeg" ContentType="image/jpeg"/>
  <Override PartName="/ppt/media/image3.jpeg" ContentType="image/jpeg"/>
  <Override PartName="/ppt/media/image30.png" ContentType="image/png"/>
  <Override PartName="/ppt/media/image15.png" ContentType="image/png"/>
  <Override PartName="/ppt/media/image12.png" ContentType="image/png"/>
  <Override PartName="/ppt/media/image14.png" ContentType="image/png"/>
  <Override PartName="/ppt/media/image64.png" ContentType="image/png"/>
  <Override PartName="/ppt/media/image17.png" ContentType="image/png"/>
  <Override PartName="/ppt/media/image63.jpeg" ContentType="image/jpeg"/>
  <Override PartName="/ppt/media/image60.png" ContentType="image/png"/>
  <Override PartName="/ppt/media/image6.jpeg" ContentType="image/jpeg"/>
  <Override PartName="/ppt/media/image29.jpeg" ContentType="image/jpeg"/>
  <Override PartName="/ppt/media/image65.wmf" ContentType="image/x-wmf"/>
  <Override PartName="/ppt/media/image38.jpeg" ContentType="image/jpeg"/>
  <Override PartName="/ppt/media/image16.jpeg" ContentType="image/jpeg"/>
  <Override PartName="/ppt/media/image5.jpeg" ContentType="image/jpeg"/>
  <Override PartName="/ppt/media/image61.png" ContentType="image/png"/>
  <Override PartName="/ppt/media/image24.png" ContentType="image/png"/>
  <Override PartName="/ppt/media/image22.png" ContentType="image/png"/>
  <Override PartName="/ppt/media/image36.jpeg" ContentType="image/jpeg"/>
  <Override PartName="/ppt/media/image10.png" ContentType="image/png"/>
  <Override PartName="/ppt/media/image1.jpeg" ContentType="image/jpeg"/>
  <Override PartName="/ppt/media/image21.png" ContentType="image/png"/>
  <Override PartName="/ppt/media/image23.jpeg" ContentType="image/jpeg"/>
  <Override PartName="/ppt/media/image8.png" ContentType="image/png"/>
  <Override PartName="/ppt/media/image52.jpeg" ContentType="image/jpeg"/>
  <Override PartName="/ppt/media/image13.png" ContentType="image/png"/>
  <Override PartName="/ppt/media/image54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9.png" ContentType="image/png"/>
  <Override PartName="/ppt/media/image39.png" ContentType="image/png"/>
  <Override PartName="/ppt/media/image11.png" ContentType="image/png"/>
  <Override PartName="/ppt/media/image31.jpeg" ContentType="image/jpeg"/>
  <Override PartName="/ppt/media/image33.jpeg" ContentType="image/jpeg"/>
  <Override PartName="/ppt/media/image35.png" ContentType="image/png"/>
  <Override PartName="/ppt/media/image28.png" ContentType="image/png"/>
  <Override PartName="/ppt/media/image43.jpeg" ContentType="image/jpeg"/>
  <Override PartName="/ppt/media/image41.jpeg" ContentType="image/jpeg"/>
  <Override PartName="/ppt/media/image44.jpeg" ContentType="image/jpeg"/>
  <Override PartName="/ppt/media/image48.png" ContentType="image/png"/>
  <Override PartName="/ppt/media/image45.jpeg" ContentType="image/jpeg"/>
  <Override PartName="/ppt/media/image55.png" ContentType="image/png"/>
  <Override PartName="/ppt/media/image58.png" ContentType="image/png"/>
  <Override PartName="/ppt/media/image46.jpeg" ContentType="image/jpeg"/>
  <Override PartName="/ppt/media/image47.jpeg" ContentType="image/jpeg"/>
  <Override PartName="/ppt/media/image49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5633-F4F6-494E-88CE-07D59324F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DBD4-8381-4516-BD24-E92ADB63B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4FAD-AAC6-4282-939F-A8E5C625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D10E-E9F6-48C7-9514-0BD59986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E8A8-3D3C-4BC8-92C8-DE38EBC6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7279-25AB-456F-8C12-BDF341D6F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9232-1576-468E-9493-EFD88C051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19A5-1B58-4E92-BC34-EFFD2489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48DD-62C1-4FEF-A9B9-B26D07F0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1A77-EA0C-4059-8201-4F09A12E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EB1B-0AE8-41CE-813A-96448E5C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3B9B-A614-4855-86C7-790A9FCE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F0C1-C327-40D4-9340-5FE1E96A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53FE-64A3-4D47-87D1-FE7B4F1B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F421-653C-470F-8AB5-0C6588EC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8BB6-2F81-428E-ACAE-E8E03B40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AAE5-6666-40CE-96EA-110B2010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B229-0857-44BA-BB50-593FA88B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2FFE-3E03-4CAC-96FE-3505A18B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2B3FC-A213-47F7-B64A-61B2B799D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ABAD6-FA82-4B40-BDE2-CAB5082E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B39DF-00DD-43DF-AED2-AAE5084B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3FF9B-62B4-4FEC-BFE5-1F394E64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57526-E09F-427E-8B4D-DA6A629F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DDF8-30DE-4E32-A464-1522A0C4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BC483-43D5-411F-8C0A-5B81DE96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25D7E-12C6-40AF-B712-71F582D1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162B0-0ABA-4EA5-9CBA-422A6D31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D6BE6-39D5-432E-992E-9A7D371E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D75DB-C10A-4FA1-B411-5D68979A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B7BC2-FFC8-45BD-B3EE-DC9E5410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B0B3B-BB49-463A-B1DF-77CF5CFE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9C270-05B8-4560-A00F-AC44B9C8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83D1E-2D51-4671-8811-E200A4EB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D94AF-944A-4AD3-BDA2-EE644DBA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46B5-26D0-432C-83FB-1C0CD306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F947A-62EA-4E72-B403-8E2814FF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50DD7-7B8A-4D7D-A831-58AEC65B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88B95-08F5-4AE3-8F3D-FD46181F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5AA16-CA27-4BE1-8634-706FAB49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F72C5-C126-472C-BBA9-D22449DF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6789B-ACB3-4F57-BC5E-FC674C69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81270-BE23-4C08-9F52-C4F2CEA6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CFF0D-54F3-4FF2-871C-49A80338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E3A6F-8FCA-4607-8369-326E00DE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44665-0480-4140-8A7A-939F63F4A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C01C-F20D-49E1-8E19-E4BF12BF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D298B-2A5C-408B-869B-1D9A73C6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98812-9A02-4AB0-92E5-6B4D8BB0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C8521-F1F3-4BD6-956C-A3420CA0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055CD-E390-46A4-B567-DD93F22B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3536C-1E5E-4DEB-A1CE-AB505BBE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F8E6F-D855-41A8-AC14-E246AB34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FD097-4A97-44D9-A3AE-3BAA35D5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6F835-3375-4544-8CE1-D2DFF935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6C864-0632-4E6B-AFE8-2D521B13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D21C3-FBBB-4378-A224-76F7FEAB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E162-6C4F-449F-8CF2-0AE2985E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C1A8B-103F-4154-A7F9-58475D2B3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C56B0-F03E-4FCB-92DC-740787EC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4E655-A39C-4DDD-BAF4-4D433C12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C6548-BBCE-4B7F-9F7B-F331F7E0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ABC21-4174-4AC6-BBFA-28CB08E4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E360A-16A9-4C09-AC1B-53E7ADDF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B7000-5E92-450F-B6E0-CB28C1F8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9DE08-2CDB-43F3-8486-9383CE4C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452AD-C2DB-4048-996D-C66D6076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E3583-0608-4455-A100-D36FAF5E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B16F-93F9-4292-8F1F-BD68A5DF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8CE5C-3F69-4614-BBE4-5B30879B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A47AD-00F3-45FD-A9C5-B73BCA7F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21B8A-7863-4CD7-9C7D-9B3C4D0E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5435-1626-49F6-AB90-B5678916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7751-E5D0-4488-BBD1-09F36CAC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DE92-DB92-49E8-9169-F9DE4563B429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Imagem 6" descr="bg_ver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Espaço Reservado para Data 3"/>
          <p:cNvSpPr/>
          <p:nvPr/>
        </p:nvSpPr>
        <p:spPr>
          <a:xfrm>
            <a:off x="609480" y="6508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064A-D755-4FB1-B9AA-18EA772AA9E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Espaço Reservado para Número de Slide 5"/>
          <p:cNvSpPr/>
          <p:nvPr/>
        </p:nvSpPr>
        <p:spPr>
          <a:xfrm>
            <a:off x="6705720" y="6508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F9A6-9BEF-42C9-8477-32D3FBAD9B8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9446-8427-458A-97BD-F1FFAABB2258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m 6" descr="bg_ver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Espaço Reservado para Data 3"/>
          <p:cNvSpPr/>
          <p:nvPr/>
        </p:nvSpPr>
        <p:spPr>
          <a:xfrm>
            <a:off x="609480" y="6508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F03D-4656-49E1-826F-6FAF3E524E6A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Espaço Reservado para Número de Slide 5"/>
          <p:cNvSpPr/>
          <p:nvPr/>
        </p:nvSpPr>
        <p:spPr>
          <a:xfrm>
            <a:off x="6705720" y="6508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C2D8-5562-42D2-9311-4CA6E16C641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1782-8DCC-4C1E-B60C-A8B511E6E3D7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Imagem 6" descr="bg_ver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Espaço Reservado para Data 3"/>
          <p:cNvSpPr/>
          <p:nvPr/>
        </p:nvSpPr>
        <p:spPr>
          <a:xfrm>
            <a:off x="609480" y="6508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7177-0C3F-431D-80B2-84F441A3A58B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ço Reservado para Número de Slide 5"/>
          <p:cNvSpPr/>
          <p:nvPr/>
        </p:nvSpPr>
        <p:spPr>
          <a:xfrm>
            <a:off x="6705720" y="6508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A7F9-2B96-42FA-90CB-7AC2D5A0162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F998-E94E-4E40-AB14-5F12CAEF16F7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Imagem 6" descr="bg_ver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Espaço Reservado para Data 3"/>
          <p:cNvSpPr/>
          <p:nvPr/>
        </p:nvSpPr>
        <p:spPr>
          <a:xfrm>
            <a:off x="609480" y="6508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0F17-2E10-488F-9B26-12E785D8458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ço Reservado para Número de Slide 5"/>
          <p:cNvSpPr/>
          <p:nvPr/>
        </p:nvSpPr>
        <p:spPr>
          <a:xfrm>
            <a:off x="6705720" y="6508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BDD5-1036-4061-9C09-A4F7E1CF404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1AFA-2247-4013-8BAA-42D1BAF52520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Imagem 6" descr="bg_ver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Espaço Reservado para Data 3"/>
          <p:cNvSpPr/>
          <p:nvPr/>
        </p:nvSpPr>
        <p:spPr>
          <a:xfrm>
            <a:off x="609480" y="6508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63CF-AA70-48DB-A11B-91713938E889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ço Reservado para Número de Slide 5"/>
          <p:cNvSpPr/>
          <p:nvPr/>
        </p:nvSpPr>
        <p:spPr>
          <a:xfrm>
            <a:off x="6705720" y="6508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0A9E-80C8-4739-B2F6-83A078D327A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2240-9C8D-471C-8A9A-C29DBAC36846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ctbr.org.br/comunicacao/noticias-conteudo.asp?cod=1196" TargetMode="External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15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actbr.org.br/" TargetMode="External"/><Relationship Id="rId2" Type="http://schemas.openxmlformats.org/officeDocument/2006/relationships/hyperlink" Target="mailto:monica.andreis@actbr.org.br" TargetMode="External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8564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tângulo 3"/>
          <p:cNvSpPr/>
          <p:nvPr/>
        </p:nvSpPr>
        <p:spPr>
          <a:xfrm>
            <a:off x="250920" y="1844640"/>
            <a:ext cx="8642160" cy="1513080"/>
          </a:xfrm>
          <a:prstGeom prst="rect">
            <a:avLst/>
          </a:prstGeom>
          <a:solidFill>
            <a:srgbClr val="ffe285"/>
          </a:solidFill>
          <a:ln w="478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Imagem 2" descr="actbr_v2a.jpg"/>
          <p:cNvPicPr/>
          <p:nvPr/>
        </p:nvPicPr>
        <p:blipFill>
          <a:blip r:embed="rId1"/>
          <a:stretch/>
        </p:blipFill>
        <p:spPr>
          <a:xfrm>
            <a:off x="3286080" y="5072040"/>
            <a:ext cx="2571840" cy="1023840"/>
          </a:xfrm>
          <a:prstGeom prst="rect">
            <a:avLst/>
          </a:prstGeom>
          <a:ln w="0">
            <a:noFill/>
          </a:ln>
        </p:spPr>
      </p:pic>
      <p:sp>
        <p:nvSpPr>
          <p:cNvPr id="261" name="CaixaDeTexto 4"/>
          <p:cNvSpPr/>
          <p:nvPr/>
        </p:nvSpPr>
        <p:spPr>
          <a:xfrm>
            <a:off x="250920" y="2133720"/>
            <a:ext cx="8642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experiência da Aliança de Controle do Tabag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Case da Lei Antifumo de 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CaixaDeTexto 6"/>
          <p:cNvSpPr/>
          <p:nvPr/>
        </p:nvSpPr>
        <p:spPr>
          <a:xfrm>
            <a:off x="2844000" y="4143240"/>
            <a:ext cx="3224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ônica Andr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onica.andreis@actbr.org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CaixaDeTexto 2"/>
          <p:cNvSpPr/>
          <p:nvPr/>
        </p:nvSpPr>
        <p:spPr>
          <a:xfrm>
            <a:off x="696240" y="324000"/>
            <a:ext cx="383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Segoe Print"/>
              </a:rPr>
              <a:t>Campanha 2007/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ACT FUMACA.mpg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7488000" cy="5615280"/>
          </a:xfrm>
          <a:prstGeom prst="rect">
            <a:avLst/>
          </a:prstGeom>
          <a:ln w="0">
            <a:noFill/>
          </a:ln>
        </p:spPr>
      </p:pic>
      <p:pic>
        <p:nvPicPr>
          <p:cNvPr id="291" name="ACTBR entrevista V2_1.mp3" descr=""/>
          <p:cNvPicPr/>
          <p:nvPr/>
        </p:nvPicPr>
        <p:blipFill>
          <a:blip r:embed="rId2"/>
          <a:stretch/>
        </p:blipFill>
        <p:spPr>
          <a:xfrm>
            <a:off x="8172360" y="354636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0655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tângulo 7"/>
          <p:cNvSpPr/>
          <p:nvPr/>
        </p:nvSpPr>
        <p:spPr>
          <a:xfrm>
            <a:off x="0" y="1428840"/>
            <a:ext cx="878688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dade de São Paulo – 2007 – 88% de apoio e 85% de fum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asil – 2008 - 88% de apoio e 80% de fumantes -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Freqüência a restaurantes e bares se manteria ou aumen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CaixaDeTexto 1"/>
          <p:cNvSpPr/>
          <p:nvPr/>
        </p:nvSpPr>
        <p:spPr>
          <a:xfrm>
            <a:off x="483120" y="260280"/>
            <a:ext cx="37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Segoe Print"/>
              </a:rPr>
              <a:t>Pesquisas de opini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Imagem 9" descr="adesivo_apoio.jpg"/>
          <p:cNvPicPr/>
          <p:nvPr/>
        </p:nvPicPr>
        <p:blipFill>
          <a:blip r:embed="rId1"/>
          <a:stretch/>
        </p:blipFill>
        <p:spPr>
          <a:xfrm>
            <a:off x="3390840" y="3357720"/>
            <a:ext cx="2693880" cy="26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78920" y="1268280"/>
            <a:ext cx="88506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Arial"/>
              </a:rPr>
              <a:t>Audiência com Governador em 16 de julho de 20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Calibri"/>
                <a:ea typeface="Arial"/>
              </a:rPr>
              <a:t>Projeto de Lei proposto em 28 de agosto de 2008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Título 2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5473800" cy="811080"/>
          </a:xfrm>
          <a:prstGeom prst="rect">
            <a:avLst/>
          </a:prstGeom>
          <a:ln w="0">
            <a:noFill/>
          </a:ln>
        </p:spPr>
      </p:pic>
      <p:sp>
        <p:nvSpPr>
          <p:cNvPr id="297" name="Retângulo 4"/>
          <p:cNvSpPr/>
          <p:nvPr/>
        </p:nvSpPr>
        <p:spPr>
          <a:xfrm>
            <a:off x="28440" y="2133720"/>
            <a:ext cx="9001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Evidê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A exposição à fumaça ambiental de tabaco causa graves danos à saú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Não há níveis seguros de exposição e não há tecnologia de engenharia de ventilação efica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Outros argumentos impor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Lei 9294/96 não oferecia proteção efeti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Marcos legais:  Constituição Federal,  CLT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QC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xperiência internacional bem-suced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População apóia a med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\\ACTSP-SERVIDOR\Servidor\Fotos\ALESP 1aAudPubl.Set08 ALT\DSC00003.JPG"/>
          <p:cNvPicPr/>
          <p:nvPr/>
        </p:nvPicPr>
        <p:blipFill>
          <a:blip r:embed="rId1"/>
          <a:stretch/>
        </p:blipFill>
        <p:spPr>
          <a:xfrm>
            <a:off x="774720" y="1285920"/>
            <a:ext cx="3297240" cy="2471760"/>
          </a:xfrm>
          <a:prstGeom prst="rect">
            <a:avLst/>
          </a:prstGeom>
          <a:ln w="0">
            <a:noFill/>
          </a:ln>
        </p:spPr>
      </p:pic>
      <p:sp>
        <p:nvSpPr>
          <p:cNvPr id="299" name="Retângulo 9"/>
          <p:cNvSpPr/>
          <p:nvPr/>
        </p:nvSpPr>
        <p:spPr>
          <a:xfrm>
            <a:off x="179280" y="28584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Segoe Print"/>
              </a:rPr>
              <a:t>Advocacy na AL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\\ACTSP-SERVIDOR\Servidor\Fotos\ALESP 1aAudPubl.Set08 ALT\DSC00004.JPG"/>
          <p:cNvPicPr/>
          <p:nvPr/>
        </p:nvPicPr>
        <p:blipFill>
          <a:blip r:embed="rId2"/>
          <a:stretch/>
        </p:blipFill>
        <p:spPr>
          <a:xfrm>
            <a:off x="4718160" y="1503360"/>
            <a:ext cx="2714400" cy="2036880"/>
          </a:xfrm>
          <a:prstGeom prst="rect">
            <a:avLst/>
          </a:prstGeom>
          <a:ln w="0">
            <a:noFill/>
          </a:ln>
        </p:spPr>
      </p:pic>
      <p:pic>
        <p:nvPicPr>
          <p:cNvPr id="301" name="Imagem 8" descr="IMG_2313.JPG"/>
          <p:cNvPicPr/>
          <p:nvPr/>
        </p:nvPicPr>
        <p:blipFill>
          <a:blip r:embed="rId3"/>
          <a:stretch/>
        </p:blipFill>
        <p:spPr>
          <a:xfrm>
            <a:off x="774720" y="4332240"/>
            <a:ext cx="3330720" cy="1855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"/>
          <p:cNvPicPr/>
          <p:nvPr/>
        </p:nvPicPr>
        <p:blipFill>
          <a:blip r:embed="rId4"/>
          <a:stretch/>
        </p:blipFill>
        <p:spPr>
          <a:xfrm>
            <a:off x="5219640" y="3800520"/>
            <a:ext cx="22114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Imagem 5" descr="FSP180209.jpg"/>
          <p:cNvPicPr/>
          <p:nvPr/>
        </p:nvPicPr>
        <p:blipFill>
          <a:blip r:embed="rId1"/>
          <a:stretch/>
        </p:blipFill>
        <p:spPr>
          <a:xfrm>
            <a:off x="398520" y="1422360"/>
            <a:ext cx="3263760" cy="45594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"/>
          <p:cNvPicPr/>
          <p:nvPr/>
        </p:nvPicPr>
        <p:blipFill>
          <a:blip r:embed="rId2"/>
          <a:stretch/>
        </p:blipFill>
        <p:spPr>
          <a:xfrm>
            <a:off x="4930920" y="1317600"/>
            <a:ext cx="2952720" cy="2800440"/>
          </a:xfrm>
          <a:prstGeom prst="rect">
            <a:avLst/>
          </a:prstGeom>
          <a:ln w="0">
            <a:noFill/>
          </a:ln>
        </p:spPr>
      </p:pic>
      <p:sp>
        <p:nvSpPr>
          <p:cNvPr id="305" name="CaixaDeTexto 9"/>
          <p:cNvSpPr/>
          <p:nvPr/>
        </p:nvSpPr>
        <p:spPr>
          <a:xfrm>
            <a:off x="531000" y="115920"/>
            <a:ext cx="391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Segoe Print"/>
              </a:rPr>
              <a:t>Pesquisas de opinião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Segoe Print"/>
              </a:rPr>
              <a:t>Contato com mí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4" descr="C:\Users\Mônica\Pictures\Tabagismo - Diversas\MateriasLeiALTSP\Estadao311008.jpg"/>
          <p:cNvPicPr/>
          <p:nvPr/>
        </p:nvPicPr>
        <p:blipFill>
          <a:blip r:embed="rId3"/>
          <a:stretch/>
        </p:blipFill>
        <p:spPr>
          <a:xfrm>
            <a:off x="4067280" y="4365720"/>
            <a:ext cx="46800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tângulo 1"/>
          <p:cNvSpPr/>
          <p:nvPr/>
        </p:nvSpPr>
        <p:spPr>
          <a:xfrm>
            <a:off x="477720" y="115920"/>
            <a:ext cx="567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Segoe Print"/>
              </a:rPr>
              <a:t>Campanha: “Quem não fuma não é obrigado a fumar”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ACT Spot.mp3" descr=""/>
          <p:cNvPicPr/>
          <p:nvPr/>
        </p:nvPicPr>
        <p:blipFill>
          <a:blip r:embed="rId1"/>
          <a:stretch/>
        </p:blipFill>
        <p:spPr>
          <a:xfrm>
            <a:off x="4608360" y="60832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309" name="campanha_quemnaofuma.mpg" descr=""/>
          <p:cNvPicPr/>
          <p:nvPr/>
        </p:nvPicPr>
        <p:blipFill>
          <a:blip r:embed="rId2"/>
          <a:stretch/>
        </p:blipFill>
        <p:spPr>
          <a:xfrm>
            <a:off x="250920" y="1117440"/>
            <a:ext cx="854064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0182" fill="hold"/>
                                        <p:tgtEl>
                                          <p:spTgt spid="3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http://www.actbr.org.br/imagens/top_barra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4214880"/>
            <a:ext cx="7597800" cy="225900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3" descr="fotos eventos 092.JPG"/>
          <p:cNvPicPr/>
          <p:nvPr/>
        </p:nvPicPr>
        <p:blipFill>
          <a:blip r:embed="rId3"/>
          <a:stretch/>
        </p:blipFill>
        <p:spPr>
          <a:xfrm>
            <a:off x="4572000" y="1428840"/>
            <a:ext cx="3714840" cy="2786040"/>
          </a:xfrm>
          <a:prstGeom prst="rect">
            <a:avLst/>
          </a:prstGeom>
          <a:ln w="0">
            <a:noFill/>
          </a:ln>
        </p:spPr>
      </p:pic>
      <p:sp>
        <p:nvSpPr>
          <p:cNvPr id="312" name="Retângulo 3"/>
          <p:cNvSpPr/>
          <p:nvPr/>
        </p:nvSpPr>
        <p:spPr>
          <a:xfrm>
            <a:off x="285840" y="1500120"/>
            <a:ext cx="407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stagnação do 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obilização da míd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Título 2" descr=""/>
          <p:cNvPicPr/>
          <p:nvPr/>
        </p:nvPicPr>
        <p:blipFill>
          <a:blip r:embed="rId4"/>
          <a:stretch/>
        </p:blipFill>
        <p:spPr>
          <a:xfrm>
            <a:off x="237960" y="171360"/>
            <a:ext cx="56325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tângulo 4"/>
          <p:cNvSpPr/>
          <p:nvPr/>
        </p:nvSpPr>
        <p:spPr>
          <a:xfrm>
            <a:off x="319680" y="214200"/>
            <a:ext cx="16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egoe Print"/>
              </a:rPr>
              <a:t>Desaf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CaixaDeTexto 9"/>
          <p:cNvSpPr/>
          <p:nvPr/>
        </p:nvSpPr>
        <p:spPr>
          <a:xfrm>
            <a:off x="1163520" y="1125360"/>
            <a:ext cx="708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posição da indústria do tabaco e seus ali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Publicidade paga em defesa dos fumódro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Imagem 6" descr="A.PagoFSP290309.jpg"/>
          <p:cNvPicPr/>
          <p:nvPr/>
        </p:nvPicPr>
        <p:blipFill>
          <a:blip r:embed="rId1"/>
          <a:stretch/>
        </p:blipFill>
        <p:spPr>
          <a:xfrm>
            <a:off x="1619280" y="2665440"/>
            <a:ext cx="2259000" cy="3757680"/>
          </a:xfrm>
          <a:prstGeom prst="rect">
            <a:avLst/>
          </a:prstGeom>
          <a:ln w="0">
            <a:noFill/>
          </a:ln>
        </p:spPr>
      </p:pic>
      <p:pic>
        <p:nvPicPr>
          <p:cNvPr id="317" name="Imagem 8" descr="A.PagoEstadao010409.jpg"/>
          <p:cNvPicPr/>
          <p:nvPr/>
        </p:nvPicPr>
        <p:blipFill>
          <a:blip r:embed="rId2"/>
          <a:stretch/>
        </p:blipFill>
        <p:spPr>
          <a:xfrm>
            <a:off x="4500720" y="2652840"/>
            <a:ext cx="283824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Imagem 3" descr="Estadao070409.jpg"/>
          <p:cNvPicPr/>
          <p:nvPr/>
        </p:nvPicPr>
        <p:blipFill>
          <a:blip r:embed="rId1"/>
          <a:stretch/>
        </p:blipFill>
        <p:spPr>
          <a:xfrm>
            <a:off x="539640" y="1693800"/>
            <a:ext cx="2497320" cy="44179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>
            <a:off x="3780000" y="2079720"/>
            <a:ext cx="4518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Imagem 18" descr="ALESP4 070409.jpg"/>
          <p:cNvPicPr/>
          <p:nvPr/>
        </p:nvPicPr>
        <p:blipFill>
          <a:blip r:embed="rId1"/>
          <a:stretch/>
        </p:blipFill>
        <p:spPr>
          <a:xfrm>
            <a:off x="5389560" y="3929040"/>
            <a:ext cx="3754440" cy="2413080"/>
          </a:xfrm>
          <a:prstGeom prst="rect">
            <a:avLst/>
          </a:prstGeom>
          <a:ln w="0">
            <a:noFill/>
          </a:ln>
        </p:spPr>
      </p:pic>
      <p:pic>
        <p:nvPicPr>
          <p:cNvPr id="321" name="Imagem 8" descr="ALESP70409.jpg"/>
          <p:cNvPicPr/>
          <p:nvPr/>
        </p:nvPicPr>
        <p:blipFill>
          <a:blip r:embed="rId2"/>
          <a:stretch/>
        </p:blipFill>
        <p:spPr>
          <a:xfrm>
            <a:off x="4427640" y="1095480"/>
            <a:ext cx="3833640" cy="2874960"/>
          </a:xfrm>
          <a:prstGeom prst="rect">
            <a:avLst/>
          </a:prstGeom>
          <a:ln w="0">
            <a:noFill/>
          </a:ln>
        </p:spPr>
      </p:pic>
      <p:pic>
        <p:nvPicPr>
          <p:cNvPr id="322" name="Imagem 4" descr="IMG_2280.JPG"/>
          <p:cNvPicPr/>
          <p:nvPr/>
        </p:nvPicPr>
        <p:blipFill>
          <a:blip r:embed="rId3"/>
          <a:stretch/>
        </p:blipFill>
        <p:spPr>
          <a:xfrm>
            <a:off x="289080" y="3562200"/>
            <a:ext cx="3644640" cy="2779920"/>
          </a:xfrm>
          <a:prstGeom prst="rect">
            <a:avLst/>
          </a:prstGeom>
          <a:ln w="0">
            <a:noFill/>
          </a:ln>
        </p:spPr>
      </p:pic>
      <p:pic>
        <p:nvPicPr>
          <p:cNvPr id="323" name="Imagem 1" descr=""/>
          <p:cNvPicPr/>
          <p:nvPr/>
        </p:nvPicPr>
        <p:blipFill>
          <a:blip r:embed="rId4"/>
          <a:stretch/>
        </p:blipFill>
        <p:spPr>
          <a:xfrm>
            <a:off x="295200" y="1268280"/>
            <a:ext cx="36464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 Estado de São Paulo tem uma lei antifumo desde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4896000" cy="34322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265" name="Título 2" descr=""/>
          <p:cNvPicPr/>
          <p:nvPr/>
        </p:nvPicPr>
        <p:blipFill>
          <a:blip r:embed="rId2"/>
          <a:stretch/>
        </p:blipFill>
        <p:spPr>
          <a:xfrm>
            <a:off x="298440" y="189000"/>
            <a:ext cx="563256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Imagem 4" descr="FSP080409III.JPG"/>
          <p:cNvPicPr/>
          <p:nvPr/>
        </p:nvPicPr>
        <p:blipFill>
          <a:blip r:embed="rId1"/>
          <a:stretch/>
        </p:blipFill>
        <p:spPr>
          <a:xfrm>
            <a:off x="1763640" y="404640"/>
            <a:ext cx="450072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3" descr=""/>
          <p:cNvPicPr/>
          <p:nvPr/>
        </p:nvPicPr>
        <p:blipFill>
          <a:blip r:embed="rId1"/>
          <a:stretch/>
        </p:blipFill>
        <p:spPr>
          <a:xfrm>
            <a:off x="249120" y="1484280"/>
            <a:ext cx="5473800" cy="2766960"/>
          </a:xfrm>
          <a:prstGeom prst="rect">
            <a:avLst/>
          </a:prstGeom>
          <a:ln w="0">
            <a:noFill/>
          </a:ln>
        </p:spPr>
      </p:pic>
      <p:pic>
        <p:nvPicPr>
          <p:cNvPr id="326" name="Imagem 6" descr="materia.jpg"/>
          <p:cNvPicPr/>
          <p:nvPr/>
        </p:nvPicPr>
        <p:blipFill>
          <a:blip r:embed="rId2"/>
          <a:stretch/>
        </p:blipFill>
        <p:spPr>
          <a:xfrm>
            <a:off x="6084720" y="2205000"/>
            <a:ext cx="2551320" cy="3583080"/>
          </a:xfrm>
          <a:prstGeom prst="rect">
            <a:avLst/>
          </a:prstGeom>
          <a:ln w="0">
            <a:noFill/>
          </a:ln>
        </p:spPr>
      </p:pic>
      <p:pic>
        <p:nvPicPr>
          <p:cNvPr id="327" name="Título 1" descr=""/>
          <p:cNvPicPr/>
          <p:nvPr/>
        </p:nvPicPr>
        <p:blipFill>
          <a:blip r:embed="rId3"/>
          <a:stretch/>
        </p:blipFill>
        <p:spPr>
          <a:xfrm>
            <a:off x="212760" y="182520"/>
            <a:ext cx="6303960" cy="811080"/>
          </a:xfrm>
          <a:prstGeom prst="rect">
            <a:avLst/>
          </a:prstGeom>
          <a:ln w="0">
            <a:noFill/>
          </a:ln>
        </p:spPr>
      </p:pic>
      <p:pic>
        <p:nvPicPr>
          <p:cNvPr id="328" name="Imagem 6" descr="1900.jpg"/>
          <p:cNvPicPr/>
          <p:nvPr/>
        </p:nvPicPr>
        <p:blipFill>
          <a:blip r:embed="rId4"/>
          <a:stretch/>
        </p:blipFill>
        <p:spPr>
          <a:xfrm>
            <a:off x="1960560" y="4716360"/>
            <a:ext cx="20509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ítulo 1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5473800" cy="811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C:\Users\Mônica\Pictures\Tabagismo diversas\MateriasLeiALTSP\SPFC.jpg"/>
          <p:cNvPicPr/>
          <p:nvPr/>
        </p:nvPicPr>
        <p:blipFill>
          <a:blip r:embed="rId2"/>
          <a:stretch/>
        </p:blipFill>
        <p:spPr>
          <a:xfrm>
            <a:off x="482760" y="1341360"/>
            <a:ext cx="4144680" cy="2063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8" descr="C:\Users\Monica\AppData\Local\Microsoft\Windows\Temporary Internet Files\Content.Outlook\1D3TV8VN\Campos do Jordão julho 2009 (2).jpg"/>
          <p:cNvPicPr/>
          <p:nvPr/>
        </p:nvPicPr>
        <p:blipFill>
          <a:blip r:embed="rId3"/>
          <a:stretch/>
        </p:blipFill>
        <p:spPr>
          <a:xfrm>
            <a:off x="4802040" y="1258920"/>
            <a:ext cx="3429000" cy="25700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C:\Users\ACTBR\Desktop\Ampulheta São Paulo julho 2009.jpg"/>
          <p:cNvPicPr/>
          <p:nvPr/>
        </p:nvPicPr>
        <p:blipFill>
          <a:blip r:embed="rId4"/>
          <a:stretch/>
        </p:blipFill>
        <p:spPr>
          <a:xfrm>
            <a:off x="482760" y="3579840"/>
            <a:ext cx="2233440" cy="2975040"/>
          </a:xfrm>
          <a:prstGeom prst="rect">
            <a:avLst/>
          </a:prstGeom>
          <a:ln w="0">
            <a:noFill/>
          </a:ln>
        </p:spPr>
      </p:pic>
      <p:pic>
        <p:nvPicPr>
          <p:cNvPr id="333" name="Imagem 4" descr="Cartao 4 meses Lei Antifumo S.Paulo.jpg"/>
          <p:cNvPicPr/>
          <p:nvPr/>
        </p:nvPicPr>
        <p:blipFill>
          <a:blip r:embed="rId5"/>
          <a:stretch/>
        </p:blipFill>
        <p:spPr>
          <a:xfrm>
            <a:off x="7196040" y="4092480"/>
            <a:ext cx="1947960" cy="2735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\\ACTSP-SERVIDOR\Servidor\Fotos\Sanção Lei SP\100_0683.JPG"/>
          <p:cNvPicPr/>
          <p:nvPr/>
        </p:nvPicPr>
        <p:blipFill>
          <a:blip r:embed="rId6"/>
          <a:stretch/>
        </p:blipFill>
        <p:spPr>
          <a:xfrm>
            <a:off x="2411280" y="4089240"/>
            <a:ext cx="2665440" cy="19972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\\ACTSP-SERVIDOR\Servidor\Projetos\ALT\Documentos escaneados\Materias 253.jpg"/>
          <p:cNvPicPr/>
          <p:nvPr/>
        </p:nvPicPr>
        <p:blipFill>
          <a:blip r:embed="rId7"/>
          <a:stretch/>
        </p:blipFill>
        <p:spPr>
          <a:xfrm>
            <a:off x="5148360" y="4092480"/>
            <a:ext cx="186516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LEI ANTIFUMO   DIA D.wmv" descr=""/>
          <p:cNvPicPr/>
          <p:nvPr/>
        </p:nvPicPr>
        <p:blipFill>
          <a:blip r:embed="rId1"/>
          <a:stretch/>
        </p:blipFill>
        <p:spPr>
          <a:xfrm>
            <a:off x="539640" y="1143000"/>
            <a:ext cx="75121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3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3" descr=""/>
          <p:cNvPicPr/>
          <p:nvPr/>
        </p:nvPicPr>
        <p:blipFill>
          <a:blip r:embed="rId1"/>
          <a:stretch/>
        </p:blipFill>
        <p:spPr>
          <a:xfrm>
            <a:off x="6804000" y="4164120"/>
            <a:ext cx="2340000" cy="2693880"/>
          </a:xfrm>
          <a:prstGeom prst="rect">
            <a:avLst/>
          </a:prstGeom>
          <a:ln w="0">
            <a:noFill/>
          </a:ln>
        </p:spPr>
      </p:pic>
      <p:sp>
        <p:nvSpPr>
          <p:cNvPr id="338" name="Retângulo 4"/>
          <p:cNvSpPr/>
          <p:nvPr/>
        </p:nvSpPr>
        <p:spPr>
          <a:xfrm>
            <a:off x="0" y="1461960"/>
            <a:ext cx="8929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4% de apoio à lei, 87% de apoio por fumantes  (01 mês apó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edução de até 94% da nicotina no ar em bares após a lei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Calibri"/>
              </a:rPr>
              <a:t>¹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ção do monóxido de carbon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9,8% - adesão dos estabelecimentos (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0,23% do total de 473 mil vistorias - 2 anos apó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turamento de casas noturnas, bares e restaurantes cresceu 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2"/>
          <a:stretch/>
        </p:blipFill>
        <p:spPr>
          <a:xfrm>
            <a:off x="4836960" y="4292640"/>
            <a:ext cx="1895760" cy="2565360"/>
          </a:xfrm>
          <a:prstGeom prst="rect">
            <a:avLst/>
          </a:prstGeom>
          <a:ln w="0">
            <a:noFill/>
          </a:ln>
        </p:spPr>
      </p:pic>
      <p:sp>
        <p:nvSpPr>
          <p:cNvPr id="340" name="Espaço Reservado para Rodapé 8"/>
          <p:cNvSpPr/>
          <p:nvPr/>
        </p:nvSpPr>
        <p:spPr>
          <a:xfrm>
            <a:off x="250920" y="5300640"/>
            <a:ext cx="424980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Andreis, M e cols, Qualidade do ar em bares de SP antes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depois da lei de ambientes fechados livres de fumo, Rev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Brasileira de Cancerologia, 2011:57(3):315-3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. Issa, JS, The effect of Sao Paulo’s smoke-free legislation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carbon monoxide concentration in hospitality venues and their workers, Tobacco Control, 2011;20:156-1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aixaDeTexto 1"/>
          <p:cNvSpPr/>
          <p:nvPr/>
        </p:nvSpPr>
        <p:spPr>
          <a:xfrm>
            <a:off x="367920" y="235080"/>
            <a:ext cx="21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Segoe Print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tângulo 4"/>
          <p:cNvSpPr/>
          <p:nvPr/>
        </p:nvSpPr>
        <p:spPr>
          <a:xfrm>
            <a:off x="249120" y="1341360"/>
            <a:ext cx="85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ção de consumo e maior procura por tra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ção de prevalência do tabag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eito dominó: Estados e Municípios aprovaram leis semelh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i Federal 12546 em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CaixaDeTexto 5"/>
          <p:cNvSpPr/>
          <p:nvPr/>
        </p:nvSpPr>
        <p:spPr>
          <a:xfrm>
            <a:off x="367920" y="235080"/>
            <a:ext cx="21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Segoe Print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Imagem 3" descr=""/>
          <p:cNvPicPr/>
          <p:nvPr/>
        </p:nvPicPr>
        <p:blipFill>
          <a:blip r:embed="rId1"/>
          <a:stretch/>
        </p:blipFill>
        <p:spPr>
          <a:xfrm>
            <a:off x="1042920" y="3943440"/>
            <a:ext cx="4327560" cy="20178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C:\Users\Mônica\Pictures\Tabagismo - Diversas\MateriasLeiALTSP\FSP170509.jpg"/>
          <p:cNvPicPr/>
          <p:nvPr/>
        </p:nvPicPr>
        <p:blipFill>
          <a:blip r:embed="rId2"/>
          <a:stretch/>
        </p:blipFill>
        <p:spPr>
          <a:xfrm>
            <a:off x="5854680" y="2857680"/>
            <a:ext cx="29876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30760"/>
            <a:ext cx="547200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0" y="13204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Calibri"/>
              </a:rPr>
              <a:t>Pesquisa Vigitel: São Paulo em 2010 tinha 20% de adultos fumantes; em 2013, 14,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Calibri"/>
              </a:rPr>
              <a:t>Pesquisa do governo federal revela que numero de fumantes cai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060"/>
                </a:solidFill>
                <a:latin typeface="Calibri"/>
              </a:rPr>
              <a:t>20% em seis anos (30/8/20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" descr="C:\Users\Mônica\Pictures\Tabagismo - Diversas\FSP PLOS.gif"/>
          <p:cNvPicPr/>
          <p:nvPr/>
        </p:nvPicPr>
        <p:blipFill>
          <a:blip r:embed="rId1"/>
          <a:srcRect l="0" t="67844" r="72037" b="0"/>
          <a:stretch/>
        </p:blipFill>
        <p:spPr>
          <a:xfrm>
            <a:off x="1692360" y="3506760"/>
            <a:ext cx="2252520" cy="3308400"/>
          </a:xfrm>
          <a:prstGeom prst="rect">
            <a:avLst/>
          </a:prstGeom>
          <a:ln w="0">
            <a:noFill/>
          </a:ln>
        </p:spPr>
      </p:pic>
      <p:sp>
        <p:nvSpPr>
          <p:cNvPr id="349" name="Retângulo 5"/>
          <p:cNvSpPr/>
          <p:nvPr/>
        </p:nvSpPr>
        <p:spPr>
          <a:xfrm>
            <a:off x="4067280" y="5805360"/>
            <a:ext cx="4424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evy D, de Almeida LM, Szklo A (2012) The Brazil SimSmoke Policy Simulation Model: The Effect of Strong Tobacco Control Policies on Smoking Prevalence and Smoking-Attributable Deaths in a Middle Income Nation. PLoS Med 9(11): e1001336. doi:10.1371/journal.pmed.10013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ítulo 2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5473800" cy="8110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C:\Users\Monica\AppData\Local\Microsoft\Windows\Temporary Internet Files\Content.Outlook\JPGSGC7N\slide-25-638 tabagismo passivo domicilio.jpg"/>
          <p:cNvPicPr/>
          <p:nvPr/>
        </p:nvPicPr>
        <p:blipFill>
          <a:blip r:embed="rId2"/>
          <a:stretch/>
        </p:blipFill>
        <p:spPr>
          <a:xfrm>
            <a:off x="-19080" y="1079640"/>
            <a:ext cx="5022720" cy="33001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C:\Users\Monica\AppData\Local\Microsoft\Windows\Temporary Internet Files\Content.Outlook\JPGSGC7N\slide-26-638 tabagismo passivo trabalho.jpg"/>
          <p:cNvPicPr/>
          <p:nvPr/>
        </p:nvPicPr>
        <p:blipFill>
          <a:blip r:embed="rId3"/>
          <a:stretch/>
        </p:blipFill>
        <p:spPr>
          <a:xfrm>
            <a:off x="4533840" y="3787920"/>
            <a:ext cx="46227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tângulo 3"/>
          <p:cNvSpPr/>
          <p:nvPr/>
        </p:nvSpPr>
        <p:spPr>
          <a:xfrm>
            <a:off x="430200" y="2349360"/>
            <a:ext cx="8391600" cy="2303640"/>
          </a:xfrm>
          <a:prstGeom prst="rect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060"/>
                </a:solidFill>
                <a:latin typeface="Segoe Print"/>
              </a:rPr>
              <a:t>Processo de Conscientiz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060"/>
                </a:solidFill>
                <a:latin typeface="Segoe Print"/>
              </a:rPr>
              <a:t>e Mudança de Atitude 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060"/>
                </a:solidFill>
                <a:latin typeface="Segoe Print"/>
              </a:rPr>
              <a:t>Relação ao F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Segoe Print"/>
              </a:rPr>
              <a:t>Mudança na aceitação social do tabag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ço Reservado para Conteúdo 3"/>
          <p:cNvSpPr/>
          <p:nvPr/>
        </p:nvSpPr>
        <p:spPr>
          <a:xfrm>
            <a:off x="4440240" y="5229360"/>
            <a:ext cx="185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85640" y="1773360"/>
            <a:ext cx="82296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esar de todas as evidências, aprovar e implementar leis de ALT é ainda um desaf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aria interesses da indústria do tabaco, que mobiliza aliados para se opor a esta medi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stionamentos judiciais  ainda estão em andamento no ST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 trabalho continua!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Espaço Reservado para Conteúdo 4"/>
          <p:cNvSpPr/>
          <p:nvPr/>
        </p:nvSpPr>
        <p:spPr>
          <a:xfrm>
            <a:off x="179280" y="1052640"/>
            <a:ext cx="892980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206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alibri"/>
              </a:rPr>
              <a:t>Estratégias de Advocac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vidências Científ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ião de esforç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ção local/ Pesquisas de opinião/ Campanh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to com mí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vocacy com liderança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oio na implementação e avaliação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2649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Vontade polí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2649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Política de A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2649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Campanh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2649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Website e linha telefôn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2649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Decreto regulamentad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2649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Treino de fiscais/ implement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aixaDeTexto 7"/>
          <p:cNvSpPr/>
          <p:nvPr/>
        </p:nvSpPr>
        <p:spPr>
          <a:xfrm>
            <a:off x="170640" y="5229360"/>
            <a:ext cx="16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Segoe Print"/>
              </a:rPr>
              <a:t>Gov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aixaDeTexto 8"/>
          <p:cNvSpPr/>
          <p:nvPr/>
        </p:nvSpPr>
        <p:spPr>
          <a:xfrm>
            <a:off x="6057000" y="2637000"/>
            <a:ext cx="290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Segoe Print"/>
              </a:rPr>
              <a:t>Sociedade Civ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Título 1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547380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tângulo 3"/>
          <p:cNvSpPr/>
          <p:nvPr/>
        </p:nvSpPr>
        <p:spPr>
          <a:xfrm>
            <a:off x="395280" y="1268280"/>
            <a:ext cx="828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articipação da sociedade civil organizada foi muito importante para contrapor os argumentos de aliados da indústria do tabaco e conseguir a aprovação e a efetiva implementação da lei em SP e outros Es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 nível federal, temos trabalhado pela publicação do decreto regulamentador e efetiva implementação da 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2124000" y="4713120"/>
            <a:ext cx="482436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78920" y="1052640"/>
            <a:ext cx="87138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 experiência de controle do tabagismo pode ser útil para o controle de outros fatores de risco, como o uso abusivo de álcool 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Importância do trabalho em rede e Advoca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1. Costa e Silva, V. L., Pantani, D., Andreis, M., Sparks, R. and Pinsky, I. (2013), Bridging the gap between science and public health: taking advantage of tobacco control experience in Brazil to inform policies to counter risk factors for non-communicable diseases. Addiction, 108: 1360–1366. doi: 10.1111/add.1220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1828800" cy="2589120"/>
          </a:xfrm>
          <a:prstGeom prst="rect">
            <a:avLst/>
          </a:prstGeom>
          <a:ln w="9360">
            <a:solidFill>
              <a:srgbClr val="5a6378"/>
            </a:solidFill>
            <a:miter/>
          </a:ln>
        </p:spPr>
      </p:pic>
      <p:sp>
        <p:nvSpPr>
          <p:cNvPr id="360" name="Retângulo 7"/>
          <p:cNvSpPr/>
          <p:nvPr/>
        </p:nvSpPr>
        <p:spPr>
          <a:xfrm>
            <a:off x="5364000" y="4724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blicação O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paho.org/b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"/>
          <p:cNvSpPr/>
          <p:nvPr/>
        </p:nvSpPr>
        <p:spPr>
          <a:xfrm>
            <a:off x="2050920" y="4076640"/>
            <a:ext cx="48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168bba"/>
                </a:solidFill>
                <a:uFillTx/>
                <a:latin typeface="Calibri"/>
                <a:hlinkClick r:id="rId1"/>
              </a:rPr>
              <a:t>www.actbr.org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onta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168bba"/>
                </a:solidFill>
                <a:uFillTx/>
                <a:latin typeface="Calibri"/>
                <a:hlinkClick r:id="rId2"/>
              </a:rPr>
              <a:t>monica.andreis@actbr.org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395280" y="2276640"/>
            <a:ext cx="82296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f4e05"/>
                </a:solidFill>
                <a:latin typeface="Calibri"/>
              </a:rPr>
              <a:t>OBRIGADA pela aten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4e05"/>
                </a:solidFill>
                <a:latin typeface="Calibri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f4e05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df4e05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df4e05"/>
                </a:solidFill>
                <a:latin typeface="Calibri"/>
              </a:rPr>
              <a:t>PARTICIPE você também!</a:t>
            </a:r>
            <a:r>
              <a:rPr b="0" lang="pt-BR" sz="2800" spc="-1" strike="noStrike">
                <a:solidFill>
                  <a:srgbClr val="df4e05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539640" y="1773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6 milhões de mortes anuais no mundo estão associadas a doenças tabaco-relaciona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Report on the Global Tobacco Epidemic, 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No Brasil, estima-se que 130.000 mortes ocorram anualmente devido ao tabagismo ativo, e </a:t>
            </a:r>
            <a:r>
              <a:rPr b="0" i="1" lang="pt-BR" sz="2800" spc="-1" strike="noStrike">
                <a:solidFill>
                  <a:srgbClr val="c00000"/>
                </a:solidFill>
                <a:latin typeface="Calibri"/>
              </a:rPr>
              <a:t>ao menos 07 mortes ao dia estão relacionadas à exposição ao fumo passiv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Carga das doenças tabaco relacionadas para o Brasil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Mortalidade atribuível ao tabagismo passivo na população urbana do Brasil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Título 1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562608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Imagem 4" descr="http://www.actbr.org.br/blog/wp-content/uploads/2014/01/novasdoencastabaco2013.png"/>
          <p:cNvPicPr/>
          <p:nvPr/>
        </p:nvPicPr>
        <p:blipFill>
          <a:blip r:embed="rId1"/>
          <a:stretch/>
        </p:blipFill>
        <p:spPr>
          <a:xfrm>
            <a:off x="0" y="3075120"/>
            <a:ext cx="2987640" cy="25635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3995640" y="1778040"/>
            <a:ext cx="4753080" cy="3957480"/>
          </a:xfrm>
          <a:prstGeom prst="rect">
            <a:avLst/>
          </a:prstGeom>
          <a:ln w="12600">
            <a:solidFill>
              <a:srgbClr val="c00000"/>
            </a:solidFill>
            <a:miter/>
          </a:ln>
        </p:spPr>
      </p:pic>
      <p:sp>
        <p:nvSpPr>
          <p:cNvPr id="274" name="Retângulo 3"/>
          <p:cNvSpPr/>
          <p:nvPr/>
        </p:nvSpPr>
        <p:spPr>
          <a:xfrm>
            <a:off x="34920" y="5805360"/>
            <a:ext cx="892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he Health Consequences of Smoking—50 Years of Progress: A Report of the Surgeon General. Atlanta, GA: U.S. Department of Health and Human Services, Centers for Disease Control and Prevention, National Center for Chronic Disease Prevention and Health Promotion, Office on Smoking and Health, 201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Título 2" descr=""/>
          <p:cNvPicPr/>
          <p:nvPr/>
        </p:nvPicPr>
        <p:blipFill>
          <a:blip r:embed="rId3"/>
          <a:stretch/>
        </p:blipFill>
        <p:spPr>
          <a:xfrm>
            <a:off x="36360" y="171360"/>
            <a:ext cx="69930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8564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 fumaça ambiental de tabaco (FAT) é considerada o principal poluente em ambientes internos, não existindo níveis seguros de exposiçã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uidelines on Protection from exposure to tobacco smoke - article 8 of the WHO FCTC, 200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spaço Reservado para Conteúdo 3"/>
          <p:cNvSpPr/>
          <p:nvPr/>
        </p:nvSpPr>
        <p:spPr>
          <a:xfrm>
            <a:off x="420840" y="3645000"/>
            <a:ext cx="853416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 separação de fumantes e não-fumantes em locais fechados não elimina os riscos de exposição aos componentes tóxicos da fumaça, mesmo com o uso de sistemas de ventilação ou renovação do 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HVA - Federation of European Heating and Air-conditioning Associations. Ventilation and smoking: reducing the exposure to ETS in buildings.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Brussels: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198360" y="2631960"/>
            <a:ext cx="8731440" cy="3810240"/>
          </a:xfrm>
          <a:prstGeom prst="rect">
            <a:avLst/>
          </a:prstGeom>
          <a:ln w="0">
            <a:noFill/>
          </a:ln>
        </p:spPr>
      </p:pic>
      <p:sp>
        <p:nvSpPr>
          <p:cNvPr id="279" name="Retângulo 3"/>
          <p:cNvSpPr/>
          <p:nvPr/>
        </p:nvSpPr>
        <p:spPr>
          <a:xfrm>
            <a:off x="5797800" y="6440400"/>
            <a:ext cx="23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http://www.who.int/tobacco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tângulo 4"/>
          <p:cNvSpPr/>
          <p:nvPr/>
        </p:nvSpPr>
        <p:spPr>
          <a:xfrm>
            <a:off x="252360" y="1125360"/>
            <a:ext cx="869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 Convenção Quadro para o Controle do Tabaco recomenda que os países adotem leis que proíbam o fumo em ambientes fechados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(Artigo 8º e Diretriz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Espaço Reservado para Conteúdo 4"/>
          <p:cNvSpPr/>
          <p:nvPr/>
        </p:nvSpPr>
        <p:spPr>
          <a:xfrm>
            <a:off x="214200" y="1052640"/>
            <a:ext cx="892980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riação de um Comitê Estadual para promoção de ambientes livres de tabaco, criado em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Lançamento do “Selo Ambiente Livre do Tabaco” para empresas que adotam AL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 união de esforços contribuiu para o deb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úblico sobre o tema e o avanço da propo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e uma lei estadual antif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Título 1" descr=""/>
          <p:cNvPicPr/>
          <p:nvPr/>
        </p:nvPicPr>
        <p:blipFill>
          <a:blip r:embed="rId1"/>
          <a:stretch/>
        </p:blipFill>
        <p:spPr>
          <a:xfrm>
            <a:off x="212760" y="182520"/>
            <a:ext cx="6303960" cy="811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\\ACTSP-SERVIDOR\Servidor\Fotos\FotosEventoSelo020709\Imagem 003.jpg"/>
          <p:cNvPicPr/>
          <p:nvPr/>
        </p:nvPicPr>
        <p:blipFill>
          <a:blip r:embed="rId2"/>
          <a:stretch/>
        </p:blipFill>
        <p:spPr>
          <a:xfrm>
            <a:off x="6516720" y="3573360"/>
            <a:ext cx="20178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tângulo 3"/>
          <p:cNvSpPr/>
          <p:nvPr/>
        </p:nvSpPr>
        <p:spPr>
          <a:xfrm>
            <a:off x="1413000" y="4041720"/>
            <a:ext cx="64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Qualquer ambiente fechado é pequeno demais para o cigarro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179280" y="1225440"/>
            <a:ext cx="4138560" cy="2708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2"/>
          <a:stretch/>
        </p:blipFill>
        <p:spPr>
          <a:xfrm>
            <a:off x="4454640" y="1225440"/>
            <a:ext cx="4441680" cy="27082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"/>
          <p:cNvPicPr/>
          <p:nvPr/>
        </p:nvPicPr>
        <p:blipFill>
          <a:blip r:embed="rId3"/>
          <a:stretch/>
        </p:blipFill>
        <p:spPr>
          <a:xfrm>
            <a:off x="3132000" y="4429080"/>
            <a:ext cx="2995920" cy="2290680"/>
          </a:xfrm>
          <a:prstGeom prst="rect">
            <a:avLst/>
          </a:prstGeom>
          <a:ln w="0">
            <a:noFill/>
          </a:ln>
        </p:spPr>
      </p:pic>
      <p:pic>
        <p:nvPicPr>
          <p:cNvPr id="288" name="Título 2" descr=""/>
          <p:cNvPicPr/>
          <p:nvPr/>
        </p:nvPicPr>
        <p:blipFill>
          <a:blip r:embed="rId4"/>
          <a:stretch/>
        </p:blipFill>
        <p:spPr>
          <a:xfrm>
            <a:off x="109440" y="42840"/>
            <a:ext cx="64929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4T19:43:07Z</dcterms:created>
  <dc:creator>Paula Johns</dc:creator>
  <dc:description/>
  <dc:language>en-US</dc:language>
  <cp:lastModifiedBy>Mônica</cp:lastModifiedBy>
  <dcterms:modified xsi:type="dcterms:W3CDTF">2014-05-20T13:02:50Z</dcterms:modified>
  <cp:revision>639</cp:revision>
  <dc:subject/>
  <dc:title>Slide sem título</dc:title>
</cp:coreProperties>
</file>